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DAEE-42C2-47B8-9282-2EE36805B1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8CFB-023C-4DFD-A43D-0F0604DE64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C0B-9833-49DB-8C17-2AAD5B2F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C73-52A3-473E-ACE9-DD7C3E5F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AD4-5ECA-4E20-B96A-90EF6DC9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837-4615-40EC-8B8B-92019FE5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E7AA-7129-4CCE-96A5-A510C2EE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9D8F-5BCB-4019-B296-AC791AE2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FE36-C6A8-4295-9A19-05DA2DF7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9554-C373-490A-A446-179CDBED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5A62-FB3E-49F8-971D-DDE7F838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2DF2-1AD6-431E-A744-CF880EF0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43CD-F573-4604-B9E7-FDB3F6EF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AE3-24EA-47EC-95C8-5C520F3F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7578-032D-4E39-BC7F-FF1D9D2C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B4DB-3556-4584-9696-EF23D191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0A09-A9F0-4A62-964A-44B8D660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0D95-27CE-490B-9E72-4CC34099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8E62-A0C5-4DA3-9315-044C5DFF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E81A-683B-4308-BA3B-76890E43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4D41-9825-45B2-8FC7-5AA1A923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D54-D36E-4E3F-9012-F8F14B15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82B-B99E-4D33-A313-054F9EA0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4F1-1B76-4D3C-8FD6-161B454B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C6F-B463-41B2-9BEB-CBB0E57B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08A-A662-453A-AA7D-A7B40A43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A602-1217-4939-85F7-AC08AE7C2C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6682-DB8A-4DFC-81A8-42E18E20E6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" Target="slide2.xm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" Target="slide2.xm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20.xml"/><Relationship Id="rId9" Type="http://schemas.openxmlformats.org/officeDocument/2006/relationships/slide" Target="slide10.xml"/><Relationship Id="rId10" Type="http://schemas.openxmlformats.org/officeDocument/2006/relationships/slide" Target="slide2.xml"/><Relationship Id="rId11" Type="http://schemas.openxmlformats.org/officeDocument/2006/relationships/hyperlink" Target="file:///tmp/home/.config/libreoffice/4/user/gallery/chimes.wav" TargetMode="Externa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ркетинговые исследования и маркетинговый анализ кондитерской отрасли РБ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42920" y="4005360"/>
            <a:ext cx="7215120" cy="1728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сертация на соискание степени магистра экономических 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искатель – Близнюк О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чный руководитель – преподаватель Чурлей Э.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ОСНОВНЫЕ РЕЗУЛЬТАТ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ркетинговые исследования становятся все более массовыми и всеобъемлющими по мере перехода экономик разных стран от «рынка продавца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условиях жесточайшей конкуренции предприятиям на всех рынках необходимо разрабатывать свою маркетинговую информационную систе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ючевым фактором успеха является также формирование собственной ИТ-стратегии, которая согласовывалась бы с основной стратегией развития предприя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rId1" action="ppaction://hlinksldjump"/>
          </p:cNvPr>
          <p:cNvSpPr/>
          <p:nvPr/>
        </p:nvSpPr>
        <p:spPr>
          <a:xfrm>
            <a:off x="4500720" y="5734080"/>
            <a:ext cx="792000" cy="863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53">
                <a:moveTo>
                  <a:pt x="0" y="0"/>
                </a:moveTo>
                <a:lnTo>
                  <a:pt x="21600" y="0"/>
                </a:lnTo>
                <a:lnTo>
                  <a:pt x="21600" y="23553"/>
                </a:lnTo>
                <a:lnTo>
                  <a:pt x="0" y="23553"/>
                </a:lnTo>
                <a:close/>
              </a:path>
              <a:path fill="lightenLess" w="21600" h="235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3">
                <a:moveTo>
                  <a:pt x="21600" y="0"/>
                </a:moveTo>
                <a:lnTo>
                  <a:pt x="21600" y="23553"/>
                </a:lnTo>
                <a:lnTo>
                  <a:pt x="20200" y="22153"/>
                </a:lnTo>
                <a:lnTo>
                  <a:pt x="20200" y="1400"/>
                </a:lnTo>
                <a:close/>
              </a:path>
              <a:path fill="darkenLess" w="21600" h="23553">
                <a:moveTo>
                  <a:pt x="21600" y="23553"/>
                </a:moveTo>
                <a:lnTo>
                  <a:pt x="0" y="23553"/>
                </a:lnTo>
                <a:lnTo>
                  <a:pt x="1400" y="22153"/>
                </a:lnTo>
                <a:lnTo>
                  <a:pt x="20200" y="22153"/>
                </a:lnTo>
                <a:close/>
              </a:path>
              <a:path fill="lighten" w="21600" h="23553">
                <a:moveTo>
                  <a:pt x="0" y="235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3"/>
                </a:lnTo>
                <a:close/>
              </a:path>
              <a:path fill="darken" w="21600" h="23553">
                <a:moveTo>
                  <a:pt x="10800" y="4814"/>
                </a:moveTo>
                <a:lnTo>
                  <a:pt x="13376" y="7425"/>
                </a:lnTo>
                <a:lnTo>
                  <a:pt x="13376" y="5684"/>
                </a:lnTo>
                <a:lnTo>
                  <a:pt x="15152" y="5684"/>
                </a:lnTo>
                <a:lnTo>
                  <a:pt x="15152" y="9200"/>
                </a:lnTo>
                <a:lnTo>
                  <a:pt x="17763" y="11776"/>
                </a:lnTo>
                <a:lnTo>
                  <a:pt x="16109" y="11776"/>
                </a:lnTo>
                <a:lnTo>
                  <a:pt x="16109" y="18966"/>
                </a:lnTo>
                <a:lnTo>
                  <a:pt x="5491" y="18966"/>
                </a:lnTo>
                <a:lnTo>
                  <a:pt x="5491" y="11776"/>
                </a:lnTo>
                <a:lnTo>
                  <a:pt x="3837" y="11776"/>
                </a:lnTo>
                <a:close/>
              </a:path>
              <a:path fill="darkenLess" w="21600" h="23553">
                <a:moveTo>
                  <a:pt x="13376" y="7425"/>
                </a:moveTo>
                <a:lnTo>
                  <a:pt x="13376" y="5684"/>
                </a:lnTo>
                <a:lnTo>
                  <a:pt x="15152" y="5684"/>
                </a:lnTo>
                <a:lnTo>
                  <a:pt x="15152" y="9200"/>
                </a:lnTo>
                <a:close/>
              </a:path>
              <a:path fill="darkenLess" w="21600" h="23553">
                <a:moveTo>
                  <a:pt x="9877" y="15275"/>
                </a:moveTo>
                <a:lnTo>
                  <a:pt x="11723" y="15275"/>
                </a:lnTo>
                <a:lnTo>
                  <a:pt x="11723" y="18966"/>
                </a:lnTo>
                <a:lnTo>
                  <a:pt x="16109" y="18966"/>
                </a:lnTo>
                <a:lnTo>
                  <a:pt x="16109" y="11776"/>
                </a:lnTo>
                <a:lnTo>
                  <a:pt x="5491" y="11776"/>
                </a:lnTo>
                <a:lnTo>
                  <a:pt x="5491" y="18966"/>
                </a:lnTo>
                <a:lnTo>
                  <a:pt x="9877" y="1896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3492360" y="5734080"/>
            <a:ext cx="719280" cy="86364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863640"/>
              <a:gd name="textAreaBottom" fmla="*/ 817200 h 863640"/>
            </a:gdLst>
            <a:ahLst/>
            <a:rect l="textAreaLeft" t="textAreaTop" r="textAreaRight" b="textAreaBottom"/>
            <a:pathLst>
              <a:path w="21600" h="25933">
                <a:moveTo>
                  <a:pt x="0" y="0"/>
                </a:moveTo>
                <a:lnTo>
                  <a:pt x="21600" y="0"/>
                </a:lnTo>
                <a:lnTo>
                  <a:pt x="21600" y="25933"/>
                </a:lnTo>
                <a:lnTo>
                  <a:pt x="0" y="25933"/>
                </a:lnTo>
                <a:close/>
              </a:path>
              <a:path fill="lightenLess" w="21600" h="259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33">
                <a:moveTo>
                  <a:pt x="21600" y="0"/>
                </a:moveTo>
                <a:lnTo>
                  <a:pt x="21600" y="25933"/>
                </a:lnTo>
                <a:lnTo>
                  <a:pt x="20200" y="24533"/>
                </a:lnTo>
                <a:lnTo>
                  <a:pt x="20200" y="1400"/>
                </a:lnTo>
                <a:close/>
              </a:path>
              <a:path fill="darkenLess" w="21600" h="25933">
                <a:moveTo>
                  <a:pt x="21600" y="25933"/>
                </a:moveTo>
                <a:lnTo>
                  <a:pt x="0" y="25933"/>
                </a:lnTo>
                <a:lnTo>
                  <a:pt x="1400" y="24533"/>
                </a:lnTo>
                <a:lnTo>
                  <a:pt x="20200" y="24533"/>
                </a:lnTo>
                <a:close/>
              </a:path>
              <a:path fill="lighten" w="21600" h="25933">
                <a:moveTo>
                  <a:pt x="0" y="259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33"/>
                </a:lnTo>
                <a:close/>
              </a:path>
              <a:path fill="darken" w="21600" h="25933">
                <a:moveTo>
                  <a:pt x="3794" y="12966"/>
                </a:moveTo>
                <a:lnTo>
                  <a:pt x="17806" y="5960"/>
                </a:lnTo>
                <a:lnTo>
                  <a:pt x="17806" y="19973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5651640" y="5805360"/>
            <a:ext cx="792000" cy="79236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8"/>
                </a:moveTo>
                <a:lnTo>
                  <a:pt x="17806" y="10805"/>
                </a:lnTo>
                <a:lnTo>
                  <a:pt x="3794" y="17811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кращенный алгоритм проведения маркетинговых исследований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проблемы исследов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 типа объекта ис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метода сбора данны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форм сбора данны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ание выборки и сбор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>
            <a:hlinkClick r:id="rId1" action="ppaction://hlinksldjump"/>
          </p:cNvPr>
          <p:cNvSpPr/>
          <p:nvPr/>
        </p:nvSpPr>
        <p:spPr>
          <a:xfrm>
            <a:off x="493236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6227640" y="5877000"/>
            <a:ext cx="792360" cy="7207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46" h="21600">
                <a:moveTo>
                  <a:pt x="0" y="0"/>
                </a:moveTo>
                <a:lnTo>
                  <a:pt x="23746" y="0"/>
                </a:lnTo>
                <a:lnTo>
                  <a:pt x="23746" y="21600"/>
                </a:lnTo>
                <a:lnTo>
                  <a:pt x="0" y="21600"/>
                </a:lnTo>
                <a:close/>
              </a:path>
              <a:path fill="lightenLess" w="23746" h="21600">
                <a:moveTo>
                  <a:pt x="0" y="0"/>
                </a:moveTo>
                <a:lnTo>
                  <a:pt x="23746" y="0"/>
                </a:lnTo>
                <a:lnTo>
                  <a:pt x="22346" y="1400"/>
                </a:lnTo>
                <a:lnTo>
                  <a:pt x="1400" y="1400"/>
                </a:lnTo>
                <a:close/>
              </a:path>
              <a:path fill="darken" w="23746" h="21600">
                <a:moveTo>
                  <a:pt x="23746" y="0"/>
                </a:moveTo>
                <a:lnTo>
                  <a:pt x="23746" y="21600"/>
                </a:lnTo>
                <a:lnTo>
                  <a:pt x="22346" y="20200"/>
                </a:lnTo>
                <a:lnTo>
                  <a:pt x="22346" y="1400"/>
                </a:lnTo>
                <a:close/>
              </a:path>
              <a:path fill="darkenLess" w="23746" h="21600">
                <a:moveTo>
                  <a:pt x="23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46" y="20200"/>
                </a:lnTo>
                <a:close/>
              </a:path>
              <a:path fill="lighten" w="23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46" h="21600">
                <a:moveTo>
                  <a:pt x="4867" y="3794"/>
                </a:moveTo>
                <a:lnTo>
                  <a:pt x="18879" y="10800"/>
                </a:lnTo>
                <a:lnTo>
                  <a:pt x="4867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>
            <a:hlinkClick r:id="" action="ppaction://hlinkshowjump?jump=previousslide"/>
            <a:hlinkClick r:id="rId3"/>
          </p:cNvPr>
          <p:cNvSpPr/>
          <p:nvPr/>
        </p:nvSpPr>
        <p:spPr>
          <a:xfrm>
            <a:off x="3851280" y="5877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10800"/>
                </a:moveTo>
                <a:lnTo>
                  <a:pt x="18874" y="3794"/>
                </a:lnTo>
                <a:lnTo>
                  <a:pt x="18874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Как и любая цель, цель маркетингового исследования должна соответствовать 5 критериям 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SMART</a:t>
            </a: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6" name="Схема 1" descr=""/>
          <p:cNvPicPr/>
          <p:nvPr/>
        </p:nvPicPr>
        <p:blipFill>
          <a:blip r:embed="rId1"/>
          <a:stretch/>
        </p:blipFill>
        <p:spPr>
          <a:xfrm>
            <a:off x="1328760" y="1268280"/>
            <a:ext cx="7443720" cy="524196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47">
            <a:hlinkClick r:id="rId2" action="ppaction://hlinksldjump"/>
          </p:cNvPr>
          <p:cNvSpPr/>
          <p:nvPr/>
        </p:nvSpPr>
        <p:spPr>
          <a:xfrm>
            <a:off x="4572000" y="606600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3" h="21600">
                <a:moveTo>
                  <a:pt x="11776" y="3837"/>
                </a:moveTo>
                <a:lnTo>
                  <a:pt x="14353" y="6448"/>
                </a:lnTo>
                <a:lnTo>
                  <a:pt x="14353" y="4707"/>
                </a:lnTo>
                <a:lnTo>
                  <a:pt x="16128" y="4707"/>
                </a:lnTo>
                <a:lnTo>
                  <a:pt x="16128" y="8224"/>
                </a:lnTo>
                <a:lnTo>
                  <a:pt x="18739" y="10800"/>
                </a:lnTo>
                <a:lnTo>
                  <a:pt x="17086" y="10800"/>
                </a:lnTo>
                <a:lnTo>
                  <a:pt x="17086" y="17989"/>
                </a:lnTo>
                <a:lnTo>
                  <a:pt x="6467" y="17989"/>
                </a:lnTo>
                <a:lnTo>
                  <a:pt x="6467" y="10800"/>
                </a:lnTo>
                <a:lnTo>
                  <a:pt x="4814" y="10800"/>
                </a:lnTo>
                <a:close/>
              </a:path>
              <a:path fill="darkenLess" w="23553" h="21600">
                <a:moveTo>
                  <a:pt x="14353" y="6448"/>
                </a:moveTo>
                <a:lnTo>
                  <a:pt x="14353" y="4707"/>
                </a:lnTo>
                <a:lnTo>
                  <a:pt x="16128" y="4707"/>
                </a:lnTo>
                <a:lnTo>
                  <a:pt x="16128" y="8224"/>
                </a:lnTo>
                <a:close/>
              </a:path>
              <a:path fill="darkenLess" w="23553" h="21600">
                <a:moveTo>
                  <a:pt x="10854" y="14299"/>
                </a:moveTo>
                <a:lnTo>
                  <a:pt x="12699" y="14299"/>
                </a:lnTo>
                <a:lnTo>
                  <a:pt x="12699" y="17989"/>
                </a:lnTo>
                <a:lnTo>
                  <a:pt x="17086" y="17989"/>
                </a:lnTo>
                <a:lnTo>
                  <a:pt x="17086" y="10800"/>
                </a:lnTo>
                <a:lnTo>
                  <a:pt x="6467" y="10800"/>
                </a:lnTo>
                <a:lnTo>
                  <a:pt x="6467" y="17989"/>
                </a:lnTo>
                <a:lnTo>
                  <a:pt x="10854" y="1798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8">
            <a:hlinkClick r:id="" action="ppaction://hlinkshowjump?jump=previousslide"/>
            <a:hlinkClick r:id="rId3"/>
          </p:cNvPr>
          <p:cNvSpPr/>
          <p:nvPr/>
        </p:nvSpPr>
        <p:spPr>
          <a:xfrm>
            <a:off x="3564000" y="613872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10800"/>
                </a:moveTo>
                <a:lnTo>
                  <a:pt x="18898" y="3794"/>
                </a:lnTo>
                <a:lnTo>
                  <a:pt x="18898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9">
            <a:hlinkClick r:id="" action="ppaction://hlinkshowjump?jump=nextslide"/>
            <a:hlinkClick r:id="rId4"/>
          </p:cNvPr>
          <p:cNvSpPr/>
          <p:nvPr/>
        </p:nvSpPr>
        <p:spPr>
          <a:xfrm>
            <a:off x="5651640" y="6066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ТРУКТУРА МАРКЕТИНГОВОЙ ИНФОРМАЦИОННОЙ СИСТЕМЫ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755640" y="2133720"/>
            <a:ext cx="2808360" cy="1511280"/>
          </a:xfrm>
          <a:prstGeom prst="flowChartProcess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 ПОТРЕБНОС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684360" y="4005360"/>
            <a:ext cx="2879640" cy="1511280"/>
          </a:xfrm>
          <a:prstGeom prst="flowChartProcess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РЕДЕ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067280" y="2276640"/>
            <a:ext cx="2233440" cy="13683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ИС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ЕН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6516720" y="2276640"/>
            <a:ext cx="2158920" cy="1368360"/>
          </a:xfrm>
          <a:prstGeom prst="flowChartProcess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ИС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О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4140360" y="4076640"/>
            <a:ext cx="2160360" cy="1297080"/>
          </a:xfrm>
          <a:prstGeom prst="flowChartProcess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ИС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6588000" y="4076640"/>
            <a:ext cx="2016360" cy="1297080"/>
          </a:xfrm>
          <a:prstGeom prst="flowChartProcess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ИС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3564000" y="2997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356400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6300720" y="29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>
            <a:off x="6227640" y="458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500364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5"/>
          <p:cNvSpPr/>
          <p:nvPr/>
        </p:nvSpPr>
        <p:spPr>
          <a:xfrm flipV="1">
            <a:off x="7451640" y="35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6"/>
          <p:cNvSpPr/>
          <p:nvPr/>
        </p:nvSpPr>
        <p:spPr>
          <a:xfrm flipH="1" flipV="1">
            <a:off x="6300720" y="364464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7"/>
          <p:cNvSpPr/>
          <p:nvPr/>
        </p:nvSpPr>
        <p:spPr>
          <a:xfrm flipV="1">
            <a:off x="6300720" y="3644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8"/>
          <p:cNvSpPr/>
          <p:nvPr/>
        </p:nvSpPr>
        <p:spPr>
          <a:xfrm>
            <a:off x="3780000" y="1628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>
            <a:off x="3780000" y="5661000"/>
            <a:ext cx="4968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0"/>
          <p:cNvSpPr/>
          <p:nvPr/>
        </p:nvSpPr>
        <p:spPr>
          <a:xfrm>
            <a:off x="3780000" y="1628640"/>
            <a:ext cx="51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"/>
          <p:cNvSpPr/>
          <p:nvPr/>
        </p:nvSpPr>
        <p:spPr>
          <a:xfrm>
            <a:off x="8820000" y="1628640"/>
            <a:ext cx="0" cy="41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22"/>
          <p:cNvSpPr txBox="1"/>
          <p:nvPr/>
        </p:nvSpPr>
        <p:spPr>
          <a:xfrm>
            <a:off x="4716360" y="1628640"/>
            <a:ext cx="25005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РАБОТКА ИНФОРМАЦ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AutoShape 23">
            <a:hlinkClick r:id="rId1"/>
          </p:cNvPr>
          <p:cNvSpPr/>
          <p:nvPr/>
        </p:nvSpPr>
        <p:spPr>
          <a:xfrm>
            <a:off x="2160720" y="5556240"/>
            <a:ext cx="1331640" cy="1301760"/>
          </a:xfrm>
          <a:custGeom>
            <a:avLst/>
            <a:gdLst>
              <a:gd name="textAreaLeft" fmla="*/ 84240 w 1331640"/>
              <a:gd name="textAreaRight" fmla="*/ 1247400 w 1331640"/>
              <a:gd name="textAreaTop" fmla="*/ 84240 h 1301760"/>
              <a:gd name="textAreaBottom" fmla="*/ 1217520 h 1301760"/>
            </a:gdLst>
            <a:ahLst/>
            <a:rect l="textAreaLeft" t="textAreaTop" r="textAreaRight" b="textAreaBottom"/>
            <a:pathLst>
              <a:path w="22096" h="21600">
                <a:moveTo>
                  <a:pt x="0" y="0"/>
                </a:moveTo>
                <a:lnTo>
                  <a:pt x="22096" y="0"/>
                </a:lnTo>
                <a:lnTo>
                  <a:pt x="22096" y="21600"/>
                </a:lnTo>
                <a:lnTo>
                  <a:pt x="0" y="21600"/>
                </a:lnTo>
                <a:close/>
              </a:path>
              <a:path fill="lightenLess" w="22096" h="21600">
                <a:moveTo>
                  <a:pt x="0" y="0"/>
                </a:moveTo>
                <a:lnTo>
                  <a:pt x="22096" y="0"/>
                </a:lnTo>
                <a:lnTo>
                  <a:pt x="20696" y="1400"/>
                </a:lnTo>
                <a:lnTo>
                  <a:pt x="1400" y="1400"/>
                </a:lnTo>
                <a:close/>
              </a:path>
              <a:path fill="darken" w="22096" h="21600">
                <a:moveTo>
                  <a:pt x="22096" y="0"/>
                </a:moveTo>
                <a:lnTo>
                  <a:pt x="22096" y="21600"/>
                </a:lnTo>
                <a:lnTo>
                  <a:pt x="20696" y="20200"/>
                </a:lnTo>
                <a:lnTo>
                  <a:pt x="20696" y="1400"/>
                </a:lnTo>
                <a:close/>
              </a:path>
              <a:path fill="darkenLess" w="22096" h="21600">
                <a:moveTo>
                  <a:pt x="22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96" y="20200"/>
                </a:lnTo>
                <a:close/>
              </a:path>
              <a:path fill="lighten" w="22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60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ти 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точни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4">
            <a:hlinkClick r:id="rId2" action="ppaction://hlinksldjump"/>
          </p:cNvPr>
          <p:cNvSpPr/>
          <p:nvPr/>
        </p:nvSpPr>
        <p:spPr>
          <a:xfrm>
            <a:off x="4859280" y="6021360"/>
            <a:ext cx="792360" cy="836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36640"/>
              <a:gd name="textAreaBottom" fmla="*/ 785520 h 83664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0"/>
                </a:moveTo>
                <a:lnTo>
                  <a:pt x="13376" y="7051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1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5">
            <a:hlinkClick r:id="" action="ppaction://hlinkshowjump?jump=previousslide"/>
            <a:hlinkClick r:id="rId3"/>
          </p:cNvPr>
          <p:cNvSpPr/>
          <p:nvPr/>
        </p:nvSpPr>
        <p:spPr>
          <a:xfrm>
            <a:off x="3708360" y="6093000"/>
            <a:ext cx="720720" cy="765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26">
                <a:moveTo>
                  <a:pt x="0" y="0"/>
                </a:moveTo>
                <a:lnTo>
                  <a:pt x="21600" y="0"/>
                </a:lnTo>
                <a:lnTo>
                  <a:pt x="21600" y="22926"/>
                </a:lnTo>
                <a:lnTo>
                  <a:pt x="0" y="22926"/>
                </a:lnTo>
                <a:close/>
              </a:path>
              <a:path fill="lightenLess" w="21600" h="22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26">
                <a:moveTo>
                  <a:pt x="21600" y="0"/>
                </a:moveTo>
                <a:lnTo>
                  <a:pt x="21600" y="22926"/>
                </a:lnTo>
                <a:lnTo>
                  <a:pt x="20200" y="21526"/>
                </a:lnTo>
                <a:lnTo>
                  <a:pt x="20200" y="1400"/>
                </a:lnTo>
                <a:close/>
              </a:path>
              <a:path fill="darkenLess" w="21600" h="22926">
                <a:moveTo>
                  <a:pt x="21600" y="22926"/>
                </a:moveTo>
                <a:lnTo>
                  <a:pt x="0" y="22926"/>
                </a:lnTo>
                <a:lnTo>
                  <a:pt x="1400" y="21526"/>
                </a:lnTo>
                <a:lnTo>
                  <a:pt x="20200" y="21526"/>
                </a:lnTo>
                <a:close/>
              </a:path>
              <a:path fill="lighten" w="21600" h="22926">
                <a:moveTo>
                  <a:pt x="0" y="22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26"/>
                </a:lnTo>
                <a:close/>
              </a:path>
              <a:path fill="darken" w="21600" h="22926">
                <a:moveTo>
                  <a:pt x="3794" y="11463"/>
                </a:moveTo>
                <a:lnTo>
                  <a:pt x="17806" y="4457"/>
                </a:lnTo>
                <a:lnTo>
                  <a:pt x="17806" y="18470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6">
            <a:hlinkClick r:id="" action="ppaction://hlinkshowjump?jump=nextslide"/>
            <a:hlinkClick r:id="rId4"/>
          </p:cNvPr>
          <p:cNvSpPr/>
          <p:nvPr/>
        </p:nvSpPr>
        <p:spPr>
          <a:xfrm>
            <a:off x="6012000" y="613872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3" h="21600">
                <a:moveTo>
                  <a:pt x="3815" y="3794"/>
                </a:moveTo>
                <a:lnTo>
                  <a:pt x="17828" y="10800"/>
                </a:lnTo>
                <a:lnTo>
                  <a:pt x="3815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c0039"/>
                </a:solidFill>
                <a:latin typeface="Arial"/>
              </a:rPr>
              <a:t>Для функционирования МИС необходимо наличие следующих ресурсов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стов, обладающих квалификацией в области сбора, обработки и анализа информ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ого обеспе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рудования (вычислительной техники, программного обеспечения, средств коммуникации, специальных прибор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>
            <a:hlinkClick r:id="rId1"/>
          </p:cNvPr>
          <p:cNvSpPr/>
          <p:nvPr/>
        </p:nvSpPr>
        <p:spPr>
          <a:xfrm>
            <a:off x="1979640" y="5661000"/>
            <a:ext cx="1368360" cy="1197000"/>
          </a:xfrm>
          <a:custGeom>
            <a:avLst/>
            <a:gdLst>
              <a:gd name="textAreaLeft" fmla="*/ 77400 w 1368360"/>
              <a:gd name="textAreaRight" fmla="*/ 1290960 w 136836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4691" h="21600">
                <a:moveTo>
                  <a:pt x="0" y="0"/>
                </a:moveTo>
                <a:lnTo>
                  <a:pt x="24691" y="0"/>
                </a:lnTo>
                <a:lnTo>
                  <a:pt x="24691" y="21600"/>
                </a:lnTo>
                <a:lnTo>
                  <a:pt x="0" y="21600"/>
                </a:lnTo>
                <a:close/>
              </a:path>
              <a:path fill="lightenLess" w="24691" h="21600">
                <a:moveTo>
                  <a:pt x="0" y="0"/>
                </a:moveTo>
                <a:lnTo>
                  <a:pt x="24691" y="0"/>
                </a:lnTo>
                <a:lnTo>
                  <a:pt x="23291" y="1400"/>
                </a:lnTo>
                <a:lnTo>
                  <a:pt x="1400" y="1400"/>
                </a:lnTo>
                <a:close/>
              </a:path>
              <a:path fill="darken" w="24691" h="21600">
                <a:moveTo>
                  <a:pt x="24691" y="0"/>
                </a:moveTo>
                <a:lnTo>
                  <a:pt x="24691" y="21600"/>
                </a:lnTo>
                <a:lnTo>
                  <a:pt x="23291" y="20200"/>
                </a:lnTo>
                <a:lnTo>
                  <a:pt x="23291" y="1400"/>
                </a:lnTo>
                <a:close/>
              </a:path>
              <a:path fill="darkenLess" w="24691" h="21600">
                <a:moveTo>
                  <a:pt x="24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1" y="20200"/>
                </a:lnTo>
                <a:close/>
              </a:path>
              <a:path fill="lighten" w="24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60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ти 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точни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>
            <a:hlinkClick r:id="rId2" action="ppaction://hlinksldjump"/>
          </p:cNvPr>
          <p:cNvSpPr/>
          <p:nvPr/>
        </p:nvSpPr>
        <p:spPr>
          <a:xfrm>
            <a:off x="536400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3837"/>
                </a:moveTo>
                <a:lnTo>
                  <a:pt x="16325" y="6448"/>
                </a:lnTo>
                <a:lnTo>
                  <a:pt x="16325" y="4707"/>
                </a:lnTo>
                <a:lnTo>
                  <a:pt x="18101" y="4707"/>
                </a:lnTo>
                <a:lnTo>
                  <a:pt x="18101" y="8224"/>
                </a:lnTo>
                <a:lnTo>
                  <a:pt x="20712" y="10800"/>
                </a:lnTo>
                <a:lnTo>
                  <a:pt x="19058" y="10800"/>
                </a:lnTo>
                <a:lnTo>
                  <a:pt x="19058" y="17989"/>
                </a:lnTo>
                <a:lnTo>
                  <a:pt x="8440" y="17989"/>
                </a:lnTo>
                <a:lnTo>
                  <a:pt x="8440" y="10800"/>
                </a:lnTo>
                <a:lnTo>
                  <a:pt x="6786" y="10800"/>
                </a:lnTo>
                <a:close/>
              </a:path>
              <a:path fill="darkenLess" w="27498" h="21600">
                <a:moveTo>
                  <a:pt x="16325" y="6448"/>
                </a:moveTo>
                <a:lnTo>
                  <a:pt x="16325" y="4707"/>
                </a:lnTo>
                <a:lnTo>
                  <a:pt x="18101" y="4707"/>
                </a:lnTo>
                <a:lnTo>
                  <a:pt x="18101" y="8224"/>
                </a:lnTo>
                <a:close/>
              </a:path>
              <a:path fill="darkenLess" w="27498" h="21600">
                <a:moveTo>
                  <a:pt x="12826" y="14299"/>
                </a:moveTo>
                <a:lnTo>
                  <a:pt x="14672" y="14299"/>
                </a:lnTo>
                <a:lnTo>
                  <a:pt x="14672" y="17989"/>
                </a:lnTo>
                <a:lnTo>
                  <a:pt x="19058" y="17989"/>
                </a:lnTo>
                <a:lnTo>
                  <a:pt x="19058" y="10800"/>
                </a:lnTo>
                <a:lnTo>
                  <a:pt x="8440" y="10800"/>
                </a:lnTo>
                <a:lnTo>
                  <a:pt x="8440" y="17989"/>
                </a:lnTo>
                <a:lnTo>
                  <a:pt x="12826" y="1798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>
            <a:hlinkClick r:id="" action="ppaction://hlinkshowjump?jump=previousslide"/>
            <a:hlinkClick r:id="rId3"/>
          </p:cNvPr>
          <p:cNvSpPr/>
          <p:nvPr/>
        </p:nvSpPr>
        <p:spPr>
          <a:xfrm>
            <a:off x="4284720" y="5877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>
            <a:hlinkClick r:id="" action="ppaction://hlinkshowjump?jump=nextslide"/>
            <a:hlinkClick r:id="rId4"/>
          </p:cNvPr>
          <p:cNvSpPr/>
          <p:nvPr/>
        </p:nvSpPr>
        <p:spPr>
          <a:xfrm>
            <a:off x="6516720" y="587700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3794"/>
                </a:moveTo>
                <a:lnTo>
                  <a:pt x="19947" y="10800"/>
                </a:lnTo>
                <a:lnTo>
                  <a:pt x="5934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НАУЧНАЯ НОВИЗН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функциональная система анализа успешности функционирования отрасли может быть создана путем логичного соединения маркетинговых приемов и методов маркетингового анализа, в частности эконометрического модел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>
            <a:hlinkClick r:id="rId1" action="ppaction://hlinksldjump"/>
          </p:cNvPr>
          <p:cNvSpPr/>
          <p:nvPr/>
        </p:nvSpPr>
        <p:spPr>
          <a:xfrm>
            <a:off x="4643280" y="6093000"/>
            <a:ext cx="792360" cy="765000"/>
          </a:xfrm>
          <a:custGeom>
            <a:avLst/>
            <a:gdLst>
              <a:gd name="textAreaLeft" fmla="*/ 49320 w 792360"/>
              <a:gd name="textAreaRight" fmla="*/ 743040 w 792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72" h="21600">
                <a:moveTo>
                  <a:pt x="0" y="0"/>
                </a:moveTo>
                <a:lnTo>
                  <a:pt x="22372" y="0"/>
                </a:lnTo>
                <a:lnTo>
                  <a:pt x="22372" y="21600"/>
                </a:lnTo>
                <a:lnTo>
                  <a:pt x="0" y="21600"/>
                </a:lnTo>
                <a:close/>
              </a:path>
              <a:path fill="lightenLess" w="22372" h="21600">
                <a:moveTo>
                  <a:pt x="0" y="0"/>
                </a:moveTo>
                <a:lnTo>
                  <a:pt x="22372" y="0"/>
                </a:lnTo>
                <a:lnTo>
                  <a:pt x="20972" y="1400"/>
                </a:lnTo>
                <a:lnTo>
                  <a:pt x="1400" y="1400"/>
                </a:lnTo>
                <a:close/>
              </a:path>
              <a:path fill="darken" w="22372" h="21600">
                <a:moveTo>
                  <a:pt x="22372" y="0"/>
                </a:moveTo>
                <a:lnTo>
                  <a:pt x="22372" y="21600"/>
                </a:lnTo>
                <a:lnTo>
                  <a:pt x="20972" y="20200"/>
                </a:lnTo>
                <a:lnTo>
                  <a:pt x="20972" y="1400"/>
                </a:lnTo>
                <a:close/>
              </a:path>
              <a:path fill="darkenLess" w="22372" h="21600">
                <a:moveTo>
                  <a:pt x="22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2" y="20200"/>
                </a:lnTo>
                <a:close/>
              </a:path>
              <a:path fill="lighten" w="22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2" h="21600">
                <a:moveTo>
                  <a:pt x="11186" y="3837"/>
                </a:moveTo>
                <a:lnTo>
                  <a:pt x="13762" y="6448"/>
                </a:lnTo>
                <a:lnTo>
                  <a:pt x="13762" y="4707"/>
                </a:lnTo>
                <a:lnTo>
                  <a:pt x="15538" y="4707"/>
                </a:lnTo>
                <a:lnTo>
                  <a:pt x="15538" y="8224"/>
                </a:lnTo>
                <a:lnTo>
                  <a:pt x="18149" y="10800"/>
                </a:lnTo>
                <a:lnTo>
                  <a:pt x="16495" y="10800"/>
                </a:lnTo>
                <a:lnTo>
                  <a:pt x="16495" y="17989"/>
                </a:lnTo>
                <a:lnTo>
                  <a:pt x="5877" y="17989"/>
                </a:lnTo>
                <a:lnTo>
                  <a:pt x="5877" y="10800"/>
                </a:lnTo>
                <a:lnTo>
                  <a:pt x="4223" y="10800"/>
                </a:lnTo>
                <a:close/>
              </a:path>
              <a:path fill="darkenLess" w="22372" h="21600">
                <a:moveTo>
                  <a:pt x="13762" y="6448"/>
                </a:moveTo>
                <a:lnTo>
                  <a:pt x="13762" y="4707"/>
                </a:lnTo>
                <a:lnTo>
                  <a:pt x="15538" y="4707"/>
                </a:lnTo>
                <a:lnTo>
                  <a:pt x="15538" y="8224"/>
                </a:lnTo>
                <a:close/>
              </a:path>
              <a:path fill="darkenLess" w="22372" h="21600">
                <a:moveTo>
                  <a:pt x="10263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5" y="17989"/>
                </a:lnTo>
                <a:lnTo>
                  <a:pt x="16495" y="10800"/>
                </a:lnTo>
                <a:lnTo>
                  <a:pt x="5877" y="10800"/>
                </a:lnTo>
                <a:lnTo>
                  <a:pt x="5877" y="17989"/>
                </a:lnTo>
                <a:lnTo>
                  <a:pt x="10263" y="1798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3492360" y="6093000"/>
            <a:ext cx="719280" cy="7650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72">
                <a:moveTo>
                  <a:pt x="0" y="0"/>
                </a:moveTo>
                <a:lnTo>
                  <a:pt x="21600" y="0"/>
                </a:lnTo>
                <a:lnTo>
                  <a:pt x="21600" y="22972"/>
                </a:lnTo>
                <a:lnTo>
                  <a:pt x="0" y="22972"/>
                </a:lnTo>
                <a:close/>
              </a:path>
              <a:path fill="lightenLess" w="21600" h="22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2">
                <a:moveTo>
                  <a:pt x="21600" y="0"/>
                </a:moveTo>
                <a:lnTo>
                  <a:pt x="21600" y="22972"/>
                </a:lnTo>
                <a:lnTo>
                  <a:pt x="20200" y="21572"/>
                </a:lnTo>
                <a:lnTo>
                  <a:pt x="20200" y="1400"/>
                </a:lnTo>
                <a:close/>
              </a:path>
              <a:path fill="darkenLess" w="21600" h="22972">
                <a:moveTo>
                  <a:pt x="21600" y="22972"/>
                </a:moveTo>
                <a:lnTo>
                  <a:pt x="0" y="22972"/>
                </a:lnTo>
                <a:lnTo>
                  <a:pt x="1400" y="21572"/>
                </a:lnTo>
                <a:lnTo>
                  <a:pt x="20200" y="21572"/>
                </a:lnTo>
                <a:close/>
              </a:path>
              <a:path fill="lighten" w="21600" h="22972">
                <a:moveTo>
                  <a:pt x="0" y="22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2"/>
                </a:lnTo>
                <a:close/>
              </a:path>
              <a:path fill="darken" w="21600" h="22972">
                <a:moveTo>
                  <a:pt x="3794" y="11486"/>
                </a:moveTo>
                <a:lnTo>
                  <a:pt x="17806" y="4480"/>
                </a:lnTo>
                <a:lnTo>
                  <a:pt x="17806" y="18493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5796000" y="6093000"/>
            <a:ext cx="720720" cy="765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26">
                <a:moveTo>
                  <a:pt x="0" y="0"/>
                </a:moveTo>
                <a:lnTo>
                  <a:pt x="21600" y="0"/>
                </a:lnTo>
                <a:lnTo>
                  <a:pt x="21600" y="22926"/>
                </a:lnTo>
                <a:lnTo>
                  <a:pt x="0" y="22926"/>
                </a:lnTo>
                <a:close/>
              </a:path>
              <a:path fill="lightenLess" w="21600" h="22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26">
                <a:moveTo>
                  <a:pt x="21600" y="0"/>
                </a:moveTo>
                <a:lnTo>
                  <a:pt x="21600" y="22926"/>
                </a:lnTo>
                <a:lnTo>
                  <a:pt x="20200" y="21526"/>
                </a:lnTo>
                <a:lnTo>
                  <a:pt x="20200" y="1400"/>
                </a:lnTo>
                <a:close/>
              </a:path>
              <a:path fill="darkenLess" w="21600" h="22926">
                <a:moveTo>
                  <a:pt x="21600" y="22926"/>
                </a:moveTo>
                <a:lnTo>
                  <a:pt x="0" y="22926"/>
                </a:lnTo>
                <a:lnTo>
                  <a:pt x="1400" y="21526"/>
                </a:lnTo>
                <a:lnTo>
                  <a:pt x="20200" y="21526"/>
                </a:lnTo>
                <a:close/>
              </a:path>
              <a:path fill="lighten" w="21600" h="22926">
                <a:moveTo>
                  <a:pt x="0" y="22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26"/>
                </a:lnTo>
                <a:close/>
              </a:path>
              <a:path fill="darken" w="21600" h="22926">
                <a:moveTo>
                  <a:pt x="3794" y="4457"/>
                </a:moveTo>
                <a:lnTo>
                  <a:pt x="17806" y="11463"/>
                </a:lnTo>
                <a:lnTo>
                  <a:pt x="3794" y="18470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84360" y="228240"/>
            <a:ext cx="635472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ПРИМЕР ИСПОЛЬЗОВАНИЯ ЭКОНОМИЧЕСКОГО МОДЕЛИРОВАНИЯ ДЛЯ АНАЛИЗА КОНДИТЕРСКОЙ ОТРАСЛИ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24000" y="177336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качестве независимых переменных (на основе экспертных оценок) были выбраны: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ПЦ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в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% к предыдущему году, реальные денежные доходы населения в % к предыдущему году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исло объектов розничной торговой сети (тыс.)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номинальная начисленная заработная плата работников промышленности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в качестве зависимой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объем производства кондитерских изделий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ыс.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>
            <a:hlinkClick r:id="rId1" action="ppaction://hlinksldjump"/>
          </p:cNvPr>
          <p:cNvSpPr/>
          <p:nvPr/>
        </p:nvSpPr>
        <p:spPr>
          <a:xfrm>
            <a:off x="4500720" y="6165720"/>
            <a:ext cx="718920" cy="692280"/>
          </a:xfrm>
          <a:custGeom>
            <a:avLst/>
            <a:gdLst>
              <a:gd name="textAreaLeft" fmla="*/ 44640 w 718920"/>
              <a:gd name="textAreaRight" fmla="*/ 674280 w 718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31" h="21600">
                <a:moveTo>
                  <a:pt x="0" y="0"/>
                </a:moveTo>
                <a:lnTo>
                  <a:pt x="22431" y="0"/>
                </a:lnTo>
                <a:lnTo>
                  <a:pt x="22431" y="21600"/>
                </a:lnTo>
                <a:lnTo>
                  <a:pt x="0" y="21600"/>
                </a:lnTo>
                <a:close/>
              </a:path>
              <a:path fill="lightenLess" w="22431" h="21600">
                <a:moveTo>
                  <a:pt x="0" y="0"/>
                </a:moveTo>
                <a:lnTo>
                  <a:pt x="22431" y="0"/>
                </a:lnTo>
                <a:lnTo>
                  <a:pt x="21031" y="1400"/>
                </a:lnTo>
                <a:lnTo>
                  <a:pt x="1400" y="1400"/>
                </a:lnTo>
                <a:close/>
              </a:path>
              <a:path fill="darken" w="22431" h="21600">
                <a:moveTo>
                  <a:pt x="22431" y="0"/>
                </a:moveTo>
                <a:lnTo>
                  <a:pt x="22431" y="21600"/>
                </a:lnTo>
                <a:lnTo>
                  <a:pt x="21031" y="20200"/>
                </a:lnTo>
                <a:lnTo>
                  <a:pt x="21031" y="1400"/>
                </a:lnTo>
                <a:close/>
              </a:path>
              <a:path fill="darkenLess" w="22431" h="21600">
                <a:moveTo>
                  <a:pt x="22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31" y="20200"/>
                </a:lnTo>
                <a:close/>
              </a:path>
              <a:path fill="lighten" w="22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31" h="21600">
                <a:moveTo>
                  <a:pt x="11215" y="3837"/>
                </a:moveTo>
                <a:lnTo>
                  <a:pt x="13792" y="6448"/>
                </a:lnTo>
                <a:lnTo>
                  <a:pt x="13792" y="4707"/>
                </a:lnTo>
                <a:lnTo>
                  <a:pt x="15567" y="4707"/>
                </a:lnTo>
                <a:lnTo>
                  <a:pt x="15567" y="8224"/>
                </a:lnTo>
                <a:lnTo>
                  <a:pt x="18178" y="10800"/>
                </a:lnTo>
                <a:lnTo>
                  <a:pt x="16525" y="10800"/>
                </a:lnTo>
                <a:lnTo>
                  <a:pt x="16525" y="17989"/>
                </a:lnTo>
                <a:lnTo>
                  <a:pt x="5906" y="17989"/>
                </a:lnTo>
                <a:lnTo>
                  <a:pt x="5906" y="10800"/>
                </a:lnTo>
                <a:lnTo>
                  <a:pt x="4252" y="10800"/>
                </a:lnTo>
                <a:close/>
              </a:path>
              <a:path fill="darkenLess" w="22431" h="21600">
                <a:moveTo>
                  <a:pt x="13792" y="6448"/>
                </a:moveTo>
                <a:lnTo>
                  <a:pt x="13792" y="4707"/>
                </a:lnTo>
                <a:lnTo>
                  <a:pt x="15567" y="4707"/>
                </a:lnTo>
                <a:lnTo>
                  <a:pt x="15567" y="8224"/>
                </a:lnTo>
                <a:close/>
              </a:path>
              <a:path fill="darkenLess" w="22431" h="21600">
                <a:moveTo>
                  <a:pt x="10293" y="14299"/>
                </a:moveTo>
                <a:lnTo>
                  <a:pt x="12138" y="14299"/>
                </a:lnTo>
                <a:lnTo>
                  <a:pt x="12138" y="17989"/>
                </a:lnTo>
                <a:lnTo>
                  <a:pt x="16525" y="17989"/>
                </a:lnTo>
                <a:lnTo>
                  <a:pt x="16525" y="10800"/>
                </a:lnTo>
                <a:lnTo>
                  <a:pt x="5906" y="10800"/>
                </a:lnTo>
                <a:lnTo>
                  <a:pt x="5906" y="17989"/>
                </a:lnTo>
                <a:lnTo>
                  <a:pt x="10293" y="1798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5508720" y="6165720"/>
            <a:ext cx="792000" cy="692280"/>
          </a:xfrm>
          <a:custGeom>
            <a:avLst/>
            <a:gdLst>
              <a:gd name="textAreaLeft" fmla="*/ 44640 w 792000"/>
              <a:gd name="textAreaRight" fmla="*/ 747360 w 792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4710" h="21600">
                <a:moveTo>
                  <a:pt x="0" y="0"/>
                </a:moveTo>
                <a:lnTo>
                  <a:pt x="24710" y="0"/>
                </a:lnTo>
                <a:lnTo>
                  <a:pt x="24710" y="21600"/>
                </a:lnTo>
                <a:lnTo>
                  <a:pt x="0" y="21600"/>
                </a:lnTo>
                <a:close/>
              </a:path>
              <a:path fill="lightenLess" w="24710" h="21600">
                <a:moveTo>
                  <a:pt x="0" y="0"/>
                </a:moveTo>
                <a:lnTo>
                  <a:pt x="24710" y="0"/>
                </a:lnTo>
                <a:lnTo>
                  <a:pt x="23310" y="1400"/>
                </a:lnTo>
                <a:lnTo>
                  <a:pt x="1400" y="1400"/>
                </a:lnTo>
                <a:close/>
              </a:path>
              <a:path fill="darken" w="24710" h="21600">
                <a:moveTo>
                  <a:pt x="24710" y="0"/>
                </a:moveTo>
                <a:lnTo>
                  <a:pt x="24710" y="21600"/>
                </a:lnTo>
                <a:lnTo>
                  <a:pt x="23310" y="20200"/>
                </a:lnTo>
                <a:lnTo>
                  <a:pt x="23310" y="1400"/>
                </a:lnTo>
                <a:close/>
              </a:path>
              <a:path fill="darkenLess" w="24710" h="21600">
                <a:moveTo>
                  <a:pt x="24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0" y="20200"/>
                </a:lnTo>
                <a:close/>
              </a:path>
              <a:path fill="lighten" w="24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0" h="21600">
                <a:moveTo>
                  <a:pt x="5348" y="3794"/>
                </a:moveTo>
                <a:lnTo>
                  <a:pt x="19361" y="10800"/>
                </a:lnTo>
                <a:lnTo>
                  <a:pt x="5348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  <a:hlinkClick r:id="rId3"/>
          </p:cNvPr>
          <p:cNvSpPr/>
          <p:nvPr/>
        </p:nvSpPr>
        <p:spPr>
          <a:xfrm>
            <a:off x="3419640" y="6165720"/>
            <a:ext cx="792000" cy="692280"/>
          </a:xfrm>
          <a:custGeom>
            <a:avLst/>
            <a:gdLst>
              <a:gd name="textAreaLeft" fmla="*/ 44640 w 792000"/>
              <a:gd name="textAreaRight" fmla="*/ 747360 w 792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4710" h="21600">
                <a:moveTo>
                  <a:pt x="0" y="0"/>
                </a:moveTo>
                <a:lnTo>
                  <a:pt x="24710" y="0"/>
                </a:lnTo>
                <a:lnTo>
                  <a:pt x="24710" y="21600"/>
                </a:lnTo>
                <a:lnTo>
                  <a:pt x="0" y="21600"/>
                </a:lnTo>
                <a:close/>
              </a:path>
              <a:path fill="lightenLess" w="24710" h="21600">
                <a:moveTo>
                  <a:pt x="0" y="0"/>
                </a:moveTo>
                <a:lnTo>
                  <a:pt x="24710" y="0"/>
                </a:lnTo>
                <a:lnTo>
                  <a:pt x="23310" y="1400"/>
                </a:lnTo>
                <a:lnTo>
                  <a:pt x="1400" y="1400"/>
                </a:lnTo>
                <a:close/>
              </a:path>
              <a:path fill="darken" w="24710" h="21600">
                <a:moveTo>
                  <a:pt x="24710" y="0"/>
                </a:moveTo>
                <a:lnTo>
                  <a:pt x="24710" y="21600"/>
                </a:lnTo>
                <a:lnTo>
                  <a:pt x="23310" y="20200"/>
                </a:lnTo>
                <a:lnTo>
                  <a:pt x="23310" y="1400"/>
                </a:lnTo>
                <a:close/>
              </a:path>
              <a:path fill="darkenLess" w="24710" h="21600">
                <a:moveTo>
                  <a:pt x="24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0" y="20200"/>
                </a:lnTo>
                <a:close/>
              </a:path>
              <a:path fill="lighten" w="24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0" h="21600">
                <a:moveTo>
                  <a:pt x="5348" y="10800"/>
                </a:moveTo>
                <a:lnTo>
                  <a:pt x="19361" y="3794"/>
                </a:lnTo>
                <a:lnTo>
                  <a:pt x="19361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ИТОГОВАЯ МОДЕЛЬ ИМЕЕТ ВИД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083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 -66,45+ 0,2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+ 0,3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+ 4,79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6,03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)   (-2,02)     (5,15)        (4,11)     (4,64)  (-3,7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0,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PE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0,00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е данные говорят, что темп роста производства кондитерских издел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одится в прямой зависимости от числа объектов розничной торговли, уровня доходов потребителей и ИПЦ, в обратной зависимости от уровня 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 работников промышленности. Тем не  менее высокое отрицательное значение свободного члена говорит о том, что модель нуждается в дальнейшей доработке и усовершенство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>
            <a:hlinkClick r:id="rId1"/>
          </p:cNvPr>
          <p:cNvSpPr/>
          <p:nvPr/>
        </p:nvSpPr>
        <p:spPr>
          <a:xfrm>
            <a:off x="4500720" y="5877000"/>
            <a:ext cx="934920" cy="79200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496" h="21600">
                <a:moveTo>
                  <a:pt x="0" y="0"/>
                </a:moveTo>
                <a:lnTo>
                  <a:pt x="25496" y="0"/>
                </a:lnTo>
                <a:lnTo>
                  <a:pt x="25496" y="21600"/>
                </a:lnTo>
                <a:lnTo>
                  <a:pt x="0" y="21600"/>
                </a:lnTo>
                <a:close/>
              </a:path>
              <a:path fill="lightenLess" w="25496" h="21600">
                <a:moveTo>
                  <a:pt x="0" y="0"/>
                </a:moveTo>
                <a:lnTo>
                  <a:pt x="25496" y="0"/>
                </a:lnTo>
                <a:lnTo>
                  <a:pt x="24096" y="1400"/>
                </a:lnTo>
                <a:lnTo>
                  <a:pt x="1400" y="1400"/>
                </a:lnTo>
                <a:close/>
              </a:path>
              <a:path fill="darken" w="25496" h="21600">
                <a:moveTo>
                  <a:pt x="25496" y="0"/>
                </a:moveTo>
                <a:lnTo>
                  <a:pt x="25496" y="21600"/>
                </a:lnTo>
                <a:lnTo>
                  <a:pt x="24096" y="20200"/>
                </a:lnTo>
                <a:lnTo>
                  <a:pt x="24096" y="1400"/>
                </a:lnTo>
                <a:close/>
              </a:path>
              <a:path fill="darkenLess" w="25496" h="21600">
                <a:moveTo>
                  <a:pt x="25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6" y="20200"/>
                </a:lnTo>
                <a:close/>
              </a:path>
              <a:path fill="lighten" w="25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6" h="21600">
                <a:moveTo>
                  <a:pt x="12748" y="3837"/>
                </a:moveTo>
                <a:lnTo>
                  <a:pt x="15324" y="6448"/>
                </a:ln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lnTo>
                  <a:pt x="19711" y="10800"/>
                </a:lnTo>
                <a:lnTo>
                  <a:pt x="18057" y="10800"/>
                </a:lnTo>
                <a:lnTo>
                  <a:pt x="18057" y="17989"/>
                </a:lnTo>
                <a:lnTo>
                  <a:pt x="7439" y="17989"/>
                </a:lnTo>
                <a:lnTo>
                  <a:pt x="7439" y="10800"/>
                </a:lnTo>
                <a:lnTo>
                  <a:pt x="5785" y="10800"/>
                </a:lnTo>
                <a:close/>
              </a:path>
              <a:path fill="darkenLess" w="25496" h="21600">
                <a:moveTo>
                  <a:pt x="15324" y="6448"/>
                </a:moveTo>
                <a:lnTo>
                  <a:pt x="15324" y="4707"/>
                </a:lnTo>
                <a:lnTo>
                  <a:pt x="17100" y="4707"/>
                </a:lnTo>
                <a:lnTo>
                  <a:pt x="17100" y="8224"/>
                </a:lnTo>
                <a:close/>
              </a:path>
              <a:path fill="darkenLess" w="25496" h="21600">
                <a:moveTo>
                  <a:pt x="11825" y="14299"/>
                </a:moveTo>
                <a:lnTo>
                  <a:pt x="13671" y="14299"/>
                </a:lnTo>
                <a:lnTo>
                  <a:pt x="13671" y="17989"/>
                </a:lnTo>
                <a:lnTo>
                  <a:pt x="18057" y="17989"/>
                </a:lnTo>
                <a:lnTo>
                  <a:pt x="18057" y="10800"/>
                </a:lnTo>
                <a:lnTo>
                  <a:pt x="7439" y="10800"/>
                </a:lnTo>
                <a:lnTo>
                  <a:pt x="7439" y="17989"/>
                </a:lnTo>
                <a:lnTo>
                  <a:pt x="11825" y="1798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3564000" y="587700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3794" y="11868"/>
                </a:moveTo>
                <a:lnTo>
                  <a:pt x="17806" y="4861"/>
                </a:lnTo>
                <a:lnTo>
                  <a:pt x="17806" y="18874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5724360" y="587700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3794"/>
                </a:moveTo>
                <a:lnTo>
                  <a:pt x="19947" y="10800"/>
                </a:lnTo>
                <a:lnTo>
                  <a:pt x="5934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ФАКТИЧЕСКИЙ И ПРОГНОЗИРУЕМЫЙ ОБЪЕМ ПРОИЗВОДСТВА КОНДИТЕРСКИХ ИЗДЕЛИЙ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96" name="Объект 3" descr=""/>
          <p:cNvPicPr/>
          <p:nvPr/>
        </p:nvPicPr>
        <p:blipFill>
          <a:blip r:embed="rId1"/>
          <a:stretch/>
        </p:blipFill>
        <p:spPr>
          <a:xfrm>
            <a:off x="2438280" y="2030400"/>
            <a:ext cx="6400800" cy="363852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5">
            <a:hlinkClick r:id="rId2"/>
          </p:cNvPr>
          <p:cNvSpPr/>
          <p:nvPr/>
        </p:nvSpPr>
        <p:spPr>
          <a:xfrm>
            <a:off x="4572000" y="587700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3" h="21600">
                <a:moveTo>
                  <a:pt x="11776" y="3837"/>
                </a:moveTo>
                <a:lnTo>
                  <a:pt x="14353" y="6448"/>
                </a:lnTo>
                <a:lnTo>
                  <a:pt x="14353" y="4707"/>
                </a:lnTo>
                <a:lnTo>
                  <a:pt x="16128" y="4707"/>
                </a:lnTo>
                <a:lnTo>
                  <a:pt x="16128" y="8224"/>
                </a:lnTo>
                <a:lnTo>
                  <a:pt x="18739" y="10800"/>
                </a:lnTo>
                <a:lnTo>
                  <a:pt x="17086" y="10800"/>
                </a:lnTo>
                <a:lnTo>
                  <a:pt x="17086" y="17989"/>
                </a:lnTo>
                <a:lnTo>
                  <a:pt x="6467" y="17989"/>
                </a:lnTo>
                <a:lnTo>
                  <a:pt x="6467" y="10800"/>
                </a:lnTo>
                <a:lnTo>
                  <a:pt x="4814" y="10800"/>
                </a:lnTo>
                <a:close/>
              </a:path>
              <a:path fill="darkenLess" w="23553" h="21600">
                <a:moveTo>
                  <a:pt x="14353" y="6448"/>
                </a:moveTo>
                <a:lnTo>
                  <a:pt x="14353" y="4707"/>
                </a:lnTo>
                <a:lnTo>
                  <a:pt x="16128" y="4707"/>
                </a:lnTo>
                <a:lnTo>
                  <a:pt x="16128" y="8224"/>
                </a:lnTo>
                <a:close/>
              </a:path>
              <a:path fill="darkenLess" w="23553" h="21600">
                <a:moveTo>
                  <a:pt x="10854" y="14299"/>
                </a:moveTo>
                <a:lnTo>
                  <a:pt x="12699" y="14299"/>
                </a:lnTo>
                <a:lnTo>
                  <a:pt x="12699" y="17989"/>
                </a:lnTo>
                <a:lnTo>
                  <a:pt x="17086" y="17989"/>
                </a:lnTo>
                <a:lnTo>
                  <a:pt x="17086" y="10800"/>
                </a:lnTo>
                <a:lnTo>
                  <a:pt x="6467" y="10800"/>
                </a:lnTo>
                <a:lnTo>
                  <a:pt x="6467" y="17989"/>
                </a:lnTo>
                <a:lnTo>
                  <a:pt x="10854" y="1798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>
            <a:hlinkClick r:id="" action="ppaction://hlinkshowjump?jump=previousslide"/>
            <a:hlinkClick r:id="rId3"/>
          </p:cNvPr>
          <p:cNvSpPr/>
          <p:nvPr/>
        </p:nvSpPr>
        <p:spPr>
          <a:xfrm>
            <a:off x="3564000" y="5877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>
            <a:hlinkClick r:id="" action="ppaction://hlinkshowjump?jump=nextslide"/>
            <a:hlinkClick r:id="rId4"/>
          </p:cNvPr>
          <p:cNvSpPr/>
          <p:nvPr/>
        </p:nvSpPr>
        <p:spPr>
          <a:xfrm>
            <a:off x="5651640" y="5877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3794"/>
                </a:moveTo>
                <a:lnTo>
                  <a:pt x="18874" y="10800"/>
                </a:lnTo>
                <a:lnTo>
                  <a:pt x="4861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00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ТРАТЕГИИ, МОДЕЛИ И ИНФОРМАЦИОННЫЕ ТЕХНОЛОГИИ ДЛЯ КАЖДОГО УРОВНЯ КОНКУРЕНЦИИ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95280" y="1600200"/>
          <a:ext cx="8443800" cy="5148360"/>
        </p:xfrm>
        <a:graphic>
          <a:graphicData uri="http://schemas.openxmlformats.org/drawingml/2006/table">
            <a:tbl>
              <a:tblPr/>
              <a:tblGrid>
                <a:gridCol w="2111400"/>
                <a:gridCol w="2111400"/>
                <a:gridCol w="2109600"/>
                <a:gridCol w="2111400"/>
              </a:tblGrid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трате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од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нформационные сети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нформационные 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рас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операция. Лицензия, Станда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дель конкурентных сил, сетевая эконом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лекоммуникации, информационное партнер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2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ергетика, Центр компе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тр компетенции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re cent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стемы знаний, системы организационного у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206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зн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нижение затрат, Дифференциация, Анализ конкур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почка добавления потребительской стоимости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alue chai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stom Relationship Management (CRM)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upply Chain Management (SC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atami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02" name="AutoShape 38">
            <a:hlinkClick r:id="rId1"/>
          </p:cNvPr>
          <p:cNvSpPr/>
          <p:nvPr/>
        </p:nvSpPr>
        <p:spPr>
          <a:xfrm>
            <a:off x="4067280" y="6093000"/>
            <a:ext cx="865080" cy="57600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434" h="21600">
                <a:moveTo>
                  <a:pt x="0" y="0"/>
                </a:moveTo>
                <a:lnTo>
                  <a:pt x="32434" y="0"/>
                </a:lnTo>
                <a:lnTo>
                  <a:pt x="32434" y="21600"/>
                </a:lnTo>
                <a:lnTo>
                  <a:pt x="0" y="21600"/>
                </a:lnTo>
                <a:close/>
              </a:path>
              <a:path fill="lightenLess" w="32434" h="21600">
                <a:moveTo>
                  <a:pt x="0" y="0"/>
                </a:moveTo>
                <a:lnTo>
                  <a:pt x="32434" y="0"/>
                </a:lnTo>
                <a:lnTo>
                  <a:pt x="31034" y="1400"/>
                </a:lnTo>
                <a:lnTo>
                  <a:pt x="1400" y="1400"/>
                </a:lnTo>
                <a:close/>
              </a:path>
              <a:path fill="darken" w="32434" h="21600">
                <a:moveTo>
                  <a:pt x="32434" y="0"/>
                </a:moveTo>
                <a:lnTo>
                  <a:pt x="32434" y="21600"/>
                </a:lnTo>
                <a:lnTo>
                  <a:pt x="31034" y="20200"/>
                </a:lnTo>
                <a:lnTo>
                  <a:pt x="31034" y="1400"/>
                </a:lnTo>
                <a:close/>
              </a:path>
              <a:path fill="darkenLess" w="32434" h="21600">
                <a:moveTo>
                  <a:pt x="324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4" y="20200"/>
                </a:lnTo>
                <a:close/>
              </a:path>
              <a:path fill="lighten" w="324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4" h="21600">
                <a:moveTo>
                  <a:pt x="16217" y="3837"/>
                </a:moveTo>
                <a:lnTo>
                  <a:pt x="18793" y="6448"/>
                </a:lnTo>
                <a:lnTo>
                  <a:pt x="18793" y="4707"/>
                </a:lnTo>
                <a:lnTo>
                  <a:pt x="20569" y="4707"/>
                </a:lnTo>
                <a:lnTo>
                  <a:pt x="20569" y="8224"/>
                </a:lnTo>
                <a:lnTo>
                  <a:pt x="23180" y="10800"/>
                </a:lnTo>
                <a:lnTo>
                  <a:pt x="21526" y="10800"/>
                </a:lnTo>
                <a:lnTo>
                  <a:pt x="21526" y="17989"/>
                </a:lnTo>
                <a:lnTo>
                  <a:pt x="10908" y="17989"/>
                </a:lnTo>
                <a:lnTo>
                  <a:pt x="10908" y="10800"/>
                </a:lnTo>
                <a:lnTo>
                  <a:pt x="9254" y="10800"/>
                </a:lnTo>
                <a:close/>
              </a:path>
              <a:path fill="darkenLess" w="32434" h="21600">
                <a:moveTo>
                  <a:pt x="18793" y="6448"/>
                </a:moveTo>
                <a:lnTo>
                  <a:pt x="18793" y="4707"/>
                </a:lnTo>
                <a:lnTo>
                  <a:pt x="20569" y="4707"/>
                </a:lnTo>
                <a:lnTo>
                  <a:pt x="20569" y="8224"/>
                </a:lnTo>
                <a:close/>
              </a:path>
              <a:path fill="darkenLess" w="32434" h="21600">
                <a:moveTo>
                  <a:pt x="15294" y="14299"/>
                </a:moveTo>
                <a:lnTo>
                  <a:pt x="17139" y="14299"/>
                </a:lnTo>
                <a:lnTo>
                  <a:pt x="17139" y="17989"/>
                </a:lnTo>
                <a:lnTo>
                  <a:pt x="21526" y="17989"/>
                </a:lnTo>
                <a:lnTo>
                  <a:pt x="21526" y="10800"/>
                </a:lnTo>
                <a:lnTo>
                  <a:pt x="10908" y="10800"/>
                </a:lnTo>
                <a:lnTo>
                  <a:pt x="10908" y="17989"/>
                </a:lnTo>
                <a:lnTo>
                  <a:pt x="15294" y="1798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9">
            <a:hlinkClick r:id="" action="ppaction://hlinkshowjump?jump=previousslide"/>
            <a:hlinkClick r:id="rId2"/>
          </p:cNvPr>
          <p:cNvSpPr/>
          <p:nvPr/>
        </p:nvSpPr>
        <p:spPr>
          <a:xfrm>
            <a:off x="2771640" y="609300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10800"/>
                </a:moveTo>
                <a:lnTo>
                  <a:pt x="24566" y="3794"/>
                </a:lnTo>
                <a:lnTo>
                  <a:pt x="24566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0">
            <a:hlinkClick r:id="" action="ppaction://hlinkshowjump?jump=nextslide"/>
            <a:hlinkClick r:id="rId3"/>
          </p:cNvPr>
          <p:cNvSpPr/>
          <p:nvPr/>
        </p:nvSpPr>
        <p:spPr>
          <a:xfrm>
            <a:off x="5219640" y="6093000"/>
            <a:ext cx="792360" cy="57600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708" h="21600">
                <a:moveTo>
                  <a:pt x="0" y="0"/>
                </a:moveTo>
                <a:lnTo>
                  <a:pt x="29708" y="0"/>
                </a:lnTo>
                <a:lnTo>
                  <a:pt x="29708" y="21600"/>
                </a:lnTo>
                <a:lnTo>
                  <a:pt x="0" y="21600"/>
                </a:lnTo>
                <a:close/>
              </a:path>
              <a:path fill="lightenLess" w="29708" h="21600">
                <a:moveTo>
                  <a:pt x="0" y="0"/>
                </a:moveTo>
                <a:lnTo>
                  <a:pt x="29708" y="0"/>
                </a:lnTo>
                <a:lnTo>
                  <a:pt x="28308" y="1400"/>
                </a:lnTo>
                <a:lnTo>
                  <a:pt x="1400" y="1400"/>
                </a:lnTo>
                <a:close/>
              </a:path>
              <a:path fill="darken" w="29708" h="21600">
                <a:moveTo>
                  <a:pt x="29708" y="0"/>
                </a:moveTo>
                <a:lnTo>
                  <a:pt x="29708" y="21600"/>
                </a:lnTo>
                <a:lnTo>
                  <a:pt x="28308" y="20200"/>
                </a:lnTo>
                <a:lnTo>
                  <a:pt x="28308" y="1400"/>
                </a:lnTo>
                <a:close/>
              </a:path>
              <a:path fill="darkenLess" w="29708" h="21600">
                <a:moveTo>
                  <a:pt x="29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8" y="20200"/>
                </a:lnTo>
                <a:close/>
              </a:path>
              <a:path fill="lighten" w="29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8" h="21600">
                <a:moveTo>
                  <a:pt x="7848" y="3794"/>
                </a:moveTo>
                <a:lnTo>
                  <a:pt x="21861" y="10800"/>
                </a:lnTo>
                <a:lnTo>
                  <a:pt x="7848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Тема и руководи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Актуаль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Поставленные цели и задач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Объект и предмет исслед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Научная гипоте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4005c"/>
                </a:solidFill>
                <a:uFillTx/>
                <a:latin typeface="Arial"/>
                <a:hlinkClick r:id="rId6" action="ppaction://hlinksldjump"/>
              </a:rPr>
              <a:t>Основные результа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4005c"/>
                </a:solidFill>
                <a:uFillTx/>
                <a:latin typeface="Arial"/>
                <a:hlinkClick r:id="rId7" action="ppaction://hlinksldjump"/>
              </a:rPr>
              <a:t>Научная новиз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4005c"/>
                </a:solidFill>
                <a:uFillTx/>
                <a:latin typeface="Arial"/>
                <a:hlinkClick r:id="rId8" action="ppaction://hlinksldjump"/>
              </a:rPr>
              <a:t>Положения, выносимые на защи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4005c"/>
                </a:solidFill>
                <a:uFillTx/>
                <a:latin typeface="Arial"/>
                <a:hlinkClick r:id="rId9" action="ppaction://hlinksldjump"/>
              </a:rPr>
              <a:t>Спасибо за вним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>
            <a:hlinkClick r:id="rId10" action="ppaction://hlinksldjump"/>
          </p:cNvPr>
          <p:cNvSpPr/>
          <p:nvPr/>
        </p:nvSpPr>
        <p:spPr>
          <a:xfrm>
            <a:off x="4286160" y="5734080"/>
            <a:ext cx="1224000" cy="865080"/>
          </a:xfrm>
          <a:custGeom>
            <a:avLst/>
            <a:gdLst>
              <a:gd name="textAreaLeft" fmla="*/ 55800 w 1224000"/>
              <a:gd name="textAreaRight" fmla="*/ 1168200 w 122400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0558" h="21600">
                <a:moveTo>
                  <a:pt x="0" y="0"/>
                </a:moveTo>
                <a:lnTo>
                  <a:pt x="30558" y="0"/>
                </a:lnTo>
                <a:lnTo>
                  <a:pt x="30558" y="21600"/>
                </a:lnTo>
                <a:lnTo>
                  <a:pt x="0" y="21600"/>
                </a:lnTo>
                <a:close/>
              </a:path>
              <a:path fill="lightenLess" w="30558" h="21600">
                <a:moveTo>
                  <a:pt x="0" y="0"/>
                </a:moveTo>
                <a:lnTo>
                  <a:pt x="30558" y="0"/>
                </a:lnTo>
                <a:lnTo>
                  <a:pt x="29158" y="1400"/>
                </a:lnTo>
                <a:lnTo>
                  <a:pt x="1400" y="1400"/>
                </a:lnTo>
                <a:close/>
              </a:path>
              <a:path fill="darken" w="30558" h="21600">
                <a:moveTo>
                  <a:pt x="30558" y="0"/>
                </a:moveTo>
                <a:lnTo>
                  <a:pt x="30558" y="21600"/>
                </a:lnTo>
                <a:lnTo>
                  <a:pt x="29158" y="20200"/>
                </a:lnTo>
                <a:lnTo>
                  <a:pt x="29158" y="1400"/>
                </a:lnTo>
                <a:close/>
              </a:path>
              <a:path fill="darkenLess" w="30558" h="21600">
                <a:moveTo>
                  <a:pt x="30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58" y="20200"/>
                </a:lnTo>
                <a:close/>
              </a:path>
              <a:path fill="lighten" w="30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58" h="21600">
                <a:moveTo>
                  <a:pt x="15279" y="3837"/>
                </a:moveTo>
                <a:lnTo>
                  <a:pt x="17855" y="6448"/>
                </a:lnTo>
                <a:lnTo>
                  <a:pt x="17855" y="4707"/>
                </a:lnTo>
                <a:lnTo>
                  <a:pt x="19631" y="4707"/>
                </a:lnTo>
                <a:lnTo>
                  <a:pt x="19631" y="8224"/>
                </a:lnTo>
                <a:lnTo>
                  <a:pt x="22242" y="10800"/>
                </a:lnTo>
                <a:lnTo>
                  <a:pt x="20588" y="10800"/>
                </a:lnTo>
                <a:lnTo>
                  <a:pt x="20588" y="17989"/>
                </a:lnTo>
                <a:lnTo>
                  <a:pt x="9970" y="17989"/>
                </a:lnTo>
                <a:lnTo>
                  <a:pt x="9970" y="10800"/>
                </a:lnTo>
                <a:lnTo>
                  <a:pt x="8316" y="10800"/>
                </a:lnTo>
                <a:close/>
              </a:path>
              <a:path fill="darkenLess" w="30558" h="21600">
                <a:moveTo>
                  <a:pt x="17855" y="6448"/>
                </a:moveTo>
                <a:lnTo>
                  <a:pt x="17855" y="4707"/>
                </a:lnTo>
                <a:lnTo>
                  <a:pt x="19631" y="4707"/>
                </a:lnTo>
                <a:lnTo>
                  <a:pt x="19631" y="8224"/>
                </a:lnTo>
                <a:close/>
              </a:path>
              <a:path fill="darkenLess" w="30558" h="21600">
                <a:moveTo>
                  <a:pt x="14356" y="14299"/>
                </a:moveTo>
                <a:lnTo>
                  <a:pt x="16202" y="14299"/>
                </a:lnTo>
                <a:lnTo>
                  <a:pt x="16202" y="17989"/>
                </a:lnTo>
                <a:lnTo>
                  <a:pt x="20588" y="17989"/>
                </a:lnTo>
                <a:lnTo>
                  <a:pt x="20588" y="10800"/>
                </a:lnTo>
                <a:lnTo>
                  <a:pt x="9970" y="10800"/>
                </a:lnTo>
                <a:lnTo>
                  <a:pt x="9970" y="17989"/>
                </a:lnTo>
                <a:lnTo>
                  <a:pt x="14356" y="1798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>
            <a:hlinkClick r:id="" action="ppaction://hlinkshowjump?jump=previousslide"/>
          </p:cNvPr>
          <p:cNvSpPr/>
          <p:nvPr/>
        </p:nvSpPr>
        <p:spPr>
          <a:xfrm>
            <a:off x="3276720" y="5734080"/>
            <a:ext cx="792000" cy="8618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61840"/>
              <a:gd name="textAreaBottom" fmla="*/ 810720 h 861840"/>
            </a:gdLst>
            <a:ahLst/>
            <a:rect l="textAreaLeft" t="textAreaTop" r="textAreaRight" b="textAreaBottom"/>
            <a:pathLst>
              <a:path w="21600" h="23504">
                <a:moveTo>
                  <a:pt x="0" y="0"/>
                </a:moveTo>
                <a:lnTo>
                  <a:pt x="21600" y="0"/>
                </a:lnTo>
                <a:lnTo>
                  <a:pt x="21600" y="23504"/>
                </a:lnTo>
                <a:lnTo>
                  <a:pt x="0" y="23504"/>
                </a:lnTo>
                <a:close/>
              </a:path>
              <a:path fill="lightenLess" w="21600" h="235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4">
                <a:moveTo>
                  <a:pt x="21600" y="0"/>
                </a:moveTo>
                <a:lnTo>
                  <a:pt x="21600" y="23504"/>
                </a:lnTo>
                <a:lnTo>
                  <a:pt x="20200" y="22104"/>
                </a:lnTo>
                <a:lnTo>
                  <a:pt x="20200" y="1400"/>
                </a:lnTo>
                <a:close/>
              </a:path>
              <a:path fill="darkenLess" w="21600" h="23504">
                <a:moveTo>
                  <a:pt x="21600" y="23504"/>
                </a:moveTo>
                <a:lnTo>
                  <a:pt x="0" y="23504"/>
                </a:lnTo>
                <a:lnTo>
                  <a:pt x="1400" y="22104"/>
                </a:lnTo>
                <a:lnTo>
                  <a:pt x="20200" y="22104"/>
                </a:lnTo>
                <a:close/>
              </a:path>
              <a:path fill="lighten" w="21600" h="23504">
                <a:moveTo>
                  <a:pt x="0" y="235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4"/>
                </a:lnTo>
                <a:close/>
              </a:path>
              <a:path fill="darken" w="21600" h="23504">
                <a:moveTo>
                  <a:pt x="3794" y="11752"/>
                </a:moveTo>
                <a:lnTo>
                  <a:pt x="17806" y="4745"/>
                </a:lnTo>
                <a:lnTo>
                  <a:pt x="17806" y="18758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">
            <a:hlinkClick r:id="" action="ppaction://hlinkshowjump?jump=nextslide"/>
            <a:hlinkClick r:id="rId11"/>
          </p:cNvPr>
          <p:cNvSpPr/>
          <p:nvPr/>
        </p:nvSpPr>
        <p:spPr>
          <a:xfrm>
            <a:off x="5724360" y="5805360"/>
            <a:ext cx="866880" cy="792360"/>
          </a:xfrm>
          <a:custGeom>
            <a:avLst/>
            <a:gdLst>
              <a:gd name="textAreaLeft" fmla="*/ 51120 w 866880"/>
              <a:gd name="textAreaRight" fmla="*/ 815760 w 8668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631" h="21600">
                <a:moveTo>
                  <a:pt x="0" y="0"/>
                </a:moveTo>
                <a:lnTo>
                  <a:pt x="23631" y="0"/>
                </a:lnTo>
                <a:lnTo>
                  <a:pt x="23631" y="21600"/>
                </a:lnTo>
                <a:lnTo>
                  <a:pt x="0" y="21600"/>
                </a:lnTo>
                <a:close/>
              </a:path>
              <a:path fill="lightenLess" w="23631" h="21600">
                <a:moveTo>
                  <a:pt x="0" y="0"/>
                </a:moveTo>
                <a:lnTo>
                  <a:pt x="23631" y="0"/>
                </a:lnTo>
                <a:lnTo>
                  <a:pt x="22231" y="1400"/>
                </a:lnTo>
                <a:lnTo>
                  <a:pt x="1400" y="1400"/>
                </a:lnTo>
                <a:close/>
              </a:path>
              <a:path fill="darken" w="23631" h="21600">
                <a:moveTo>
                  <a:pt x="23631" y="0"/>
                </a:moveTo>
                <a:lnTo>
                  <a:pt x="23631" y="21600"/>
                </a:lnTo>
                <a:lnTo>
                  <a:pt x="22231" y="20200"/>
                </a:lnTo>
                <a:lnTo>
                  <a:pt x="22231" y="1400"/>
                </a:lnTo>
                <a:close/>
              </a:path>
              <a:path fill="darkenLess" w="23631" h="21600">
                <a:moveTo>
                  <a:pt x="23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1" y="20200"/>
                </a:lnTo>
                <a:close/>
              </a:path>
              <a:path fill="lighten" w="23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1" h="21600">
                <a:moveTo>
                  <a:pt x="4809" y="3794"/>
                </a:moveTo>
                <a:lnTo>
                  <a:pt x="18822" y="10800"/>
                </a:lnTo>
                <a:lnTo>
                  <a:pt x="4809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ЛОЖЕНИЯ, ВЫНОСИМЫЕ НА ЗАЩИТУ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 современных условиях «чистых маркетинг» занимает только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его маркетинга предпри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детерминанта конкурентоспособности – способность создать эффективную маркетинговую информационную систему, отвечающую за сбор, хранение и обработку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западные концепции и приемы анализа могут быть адаптированы и успешно внедрены для создания системы маркетингового отраслевого ана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>
            <a:hlinkClick r:id="rId1"/>
          </p:cNvPr>
          <p:cNvSpPr/>
          <p:nvPr/>
        </p:nvSpPr>
        <p:spPr>
          <a:xfrm>
            <a:off x="4356000" y="544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2" h="21600">
                <a:moveTo>
                  <a:pt x="11771" y="3837"/>
                </a:moveTo>
                <a:lnTo>
                  <a:pt x="14347" y="6448"/>
                </a:lnTo>
                <a:lnTo>
                  <a:pt x="14347" y="4707"/>
                </a:lnTo>
                <a:lnTo>
                  <a:pt x="16123" y="4707"/>
                </a:lnTo>
                <a:lnTo>
                  <a:pt x="16123" y="8224"/>
                </a:lnTo>
                <a:lnTo>
                  <a:pt x="18734" y="10800"/>
                </a:lnTo>
                <a:lnTo>
                  <a:pt x="17080" y="10800"/>
                </a:lnTo>
                <a:lnTo>
                  <a:pt x="17080" y="17989"/>
                </a:lnTo>
                <a:lnTo>
                  <a:pt x="6462" y="17989"/>
                </a:lnTo>
                <a:lnTo>
                  <a:pt x="6462" y="10800"/>
                </a:lnTo>
                <a:lnTo>
                  <a:pt x="4808" y="10800"/>
                </a:lnTo>
                <a:close/>
              </a:path>
              <a:path fill="darkenLess" w="23542" h="21600">
                <a:moveTo>
                  <a:pt x="14347" y="6448"/>
                </a:moveTo>
                <a:lnTo>
                  <a:pt x="14347" y="4707"/>
                </a:lnTo>
                <a:lnTo>
                  <a:pt x="16123" y="4707"/>
                </a:lnTo>
                <a:lnTo>
                  <a:pt x="16123" y="8224"/>
                </a:lnTo>
                <a:close/>
              </a:path>
              <a:path fill="darkenLess" w="23542" h="21600">
                <a:moveTo>
                  <a:pt x="10849" y="14299"/>
                </a:moveTo>
                <a:lnTo>
                  <a:pt x="12694" y="14299"/>
                </a:lnTo>
                <a:lnTo>
                  <a:pt x="12694" y="17989"/>
                </a:lnTo>
                <a:lnTo>
                  <a:pt x="17080" y="17989"/>
                </a:lnTo>
                <a:lnTo>
                  <a:pt x="17080" y="10800"/>
                </a:lnTo>
                <a:lnTo>
                  <a:pt x="6462" y="10800"/>
                </a:lnTo>
                <a:lnTo>
                  <a:pt x="6462" y="17989"/>
                </a:lnTo>
                <a:lnTo>
                  <a:pt x="10849" y="1798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3348000" y="5445000"/>
            <a:ext cx="719280" cy="79236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92360"/>
              <a:gd name="textAreaBottom" fmla="*/ 745920 h 792360"/>
            </a:gdLst>
            <a:ahLst/>
            <a:rect l="textAreaLeft" t="textAreaTop" r="textAreaRight" b="textAreaBottom"/>
            <a:pathLst>
              <a:path w="21600" h="23793">
                <a:moveTo>
                  <a:pt x="0" y="0"/>
                </a:moveTo>
                <a:lnTo>
                  <a:pt x="21600" y="0"/>
                </a:lnTo>
                <a:lnTo>
                  <a:pt x="21600" y="23793"/>
                </a:lnTo>
                <a:lnTo>
                  <a:pt x="0" y="23793"/>
                </a:lnTo>
                <a:close/>
              </a:path>
              <a:path fill="lightenLess" w="21600" h="237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93">
                <a:moveTo>
                  <a:pt x="21600" y="0"/>
                </a:moveTo>
                <a:lnTo>
                  <a:pt x="21600" y="23793"/>
                </a:lnTo>
                <a:lnTo>
                  <a:pt x="20200" y="22393"/>
                </a:lnTo>
                <a:lnTo>
                  <a:pt x="20200" y="1400"/>
                </a:lnTo>
                <a:close/>
              </a:path>
              <a:path fill="darkenLess" w="21600" h="23793">
                <a:moveTo>
                  <a:pt x="21600" y="23793"/>
                </a:moveTo>
                <a:lnTo>
                  <a:pt x="0" y="23793"/>
                </a:lnTo>
                <a:lnTo>
                  <a:pt x="1400" y="22393"/>
                </a:lnTo>
                <a:lnTo>
                  <a:pt x="20200" y="22393"/>
                </a:lnTo>
                <a:close/>
              </a:path>
              <a:path fill="lighten" w="21600" h="23793">
                <a:moveTo>
                  <a:pt x="0" y="237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93"/>
                </a:lnTo>
                <a:close/>
              </a:path>
              <a:path fill="darken" w="21600" h="23793">
                <a:moveTo>
                  <a:pt x="3794" y="11897"/>
                </a:moveTo>
                <a:lnTo>
                  <a:pt x="17806" y="4890"/>
                </a:lnTo>
                <a:lnTo>
                  <a:pt x="17806" y="18903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5364000" y="5445000"/>
            <a:ext cx="720720" cy="79236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360"/>
              <a:gd name="textAreaBottom" fmla="*/ 745920 h 792360"/>
            </a:gdLst>
            <a:ahLst/>
            <a:rect l="textAreaLeft" t="textAreaTop" r="textAreaRight" b="textAreaBottom"/>
            <a:pathLst>
              <a:path w="21600" h="23746">
                <a:moveTo>
                  <a:pt x="0" y="0"/>
                </a:moveTo>
                <a:lnTo>
                  <a:pt x="21600" y="0"/>
                </a:lnTo>
                <a:lnTo>
                  <a:pt x="21600" y="23746"/>
                </a:lnTo>
                <a:lnTo>
                  <a:pt x="0" y="23746"/>
                </a:lnTo>
                <a:close/>
              </a:path>
              <a:path fill="lightenLess" w="21600" h="237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46">
                <a:moveTo>
                  <a:pt x="21600" y="0"/>
                </a:moveTo>
                <a:lnTo>
                  <a:pt x="21600" y="23746"/>
                </a:lnTo>
                <a:lnTo>
                  <a:pt x="20200" y="22346"/>
                </a:lnTo>
                <a:lnTo>
                  <a:pt x="20200" y="1400"/>
                </a:lnTo>
                <a:close/>
              </a:path>
              <a:path fill="darkenLess" w="21600" h="23746">
                <a:moveTo>
                  <a:pt x="21600" y="23746"/>
                </a:moveTo>
                <a:lnTo>
                  <a:pt x="0" y="23746"/>
                </a:lnTo>
                <a:lnTo>
                  <a:pt x="1400" y="22346"/>
                </a:lnTo>
                <a:lnTo>
                  <a:pt x="20200" y="22346"/>
                </a:lnTo>
                <a:close/>
              </a:path>
              <a:path fill="lighten" w="21600" h="23746">
                <a:moveTo>
                  <a:pt x="0" y="237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46"/>
                </a:lnTo>
                <a:close/>
              </a:path>
              <a:path fill="darken" w="21600" h="23746">
                <a:moveTo>
                  <a:pt x="3794" y="4867"/>
                </a:moveTo>
                <a:lnTo>
                  <a:pt x="17806" y="11873"/>
                </a:lnTo>
                <a:lnTo>
                  <a:pt x="3794" y="1887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ЛОЖЕНИЯ, ВЫНОСИМЫЕ НА ЗАЩИТУ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кетинг должен быть признан как функцией бизнеса, так и его философ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кетинговые исследования и их надлежащая организация становятся инструментом, с помощью которого существенно снижается риск предпринимательства, продуцента, поставщика, посредника и возрастает качество решения задач потреби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новная ц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аркетинговых исследований заключается в создании информационно-аналитической базы для принятия маркетинговых решений и уменьшения степени неопределенности, связанной с н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>
            <a:hlinkClick r:id="rId1"/>
          </p:cNvPr>
          <p:cNvSpPr/>
          <p:nvPr/>
        </p:nvSpPr>
        <p:spPr>
          <a:xfrm>
            <a:off x="4572000" y="551664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12773" y="3837"/>
                </a:moveTo>
                <a:lnTo>
                  <a:pt x="15349" y="6448"/>
                </a:ln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lnTo>
                  <a:pt x="19736" y="10800"/>
                </a:lnTo>
                <a:lnTo>
                  <a:pt x="18082" y="10800"/>
                </a:lnTo>
                <a:lnTo>
                  <a:pt x="18082" y="17989"/>
                </a:lnTo>
                <a:lnTo>
                  <a:pt x="7463" y="17989"/>
                </a:lnTo>
                <a:lnTo>
                  <a:pt x="7463" y="10800"/>
                </a:lnTo>
                <a:lnTo>
                  <a:pt x="5810" y="10800"/>
                </a:lnTo>
                <a:close/>
              </a:path>
              <a:path fill="darkenLess" w="25545" h="21600">
                <a:moveTo>
                  <a:pt x="15349" y="6448"/>
                </a:moveTo>
                <a:lnTo>
                  <a:pt x="15349" y="4707"/>
                </a:lnTo>
                <a:lnTo>
                  <a:pt x="17124" y="4707"/>
                </a:lnTo>
                <a:lnTo>
                  <a:pt x="17124" y="8224"/>
                </a:lnTo>
                <a:close/>
              </a:path>
              <a:path fill="darkenLess" w="25545" h="21600">
                <a:moveTo>
                  <a:pt x="11850" y="14299"/>
                </a:moveTo>
                <a:lnTo>
                  <a:pt x="13695" y="14299"/>
                </a:lnTo>
                <a:lnTo>
                  <a:pt x="13695" y="17989"/>
                </a:lnTo>
                <a:lnTo>
                  <a:pt x="18082" y="17989"/>
                </a:lnTo>
                <a:lnTo>
                  <a:pt x="18082" y="10800"/>
                </a:lnTo>
                <a:lnTo>
                  <a:pt x="7463" y="10800"/>
                </a:lnTo>
                <a:lnTo>
                  <a:pt x="7463" y="17989"/>
                </a:lnTo>
                <a:lnTo>
                  <a:pt x="11850" y="1798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3492360" y="5516640"/>
            <a:ext cx="792360" cy="79200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8" y="10800"/>
                </a:moveTo>
                <a:lnTo>
                  <a:pt x="17811" y="3794"/>
                </a:lnTo>
                <a:lnTo>
                  <a:pt x="17811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5867280" y="551664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3794" y="4861"/>
                </a:moveTo>
                <a:lnTo>
                  <a:pt x="17806" y="11868"/>
                </a:lnTo>
                <a:lnTo>
                  <a:pt x="3794" y="18874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ЛОЖЕНИЯ, ВЫНОСИМЫЕ НА ЗАЩИТУ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временное маркетинговое исследование – это процесс поиска, сбора, обработки данных и подготовки информации для принятия оперативных и стратегических решений в системе предпринимательств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лассическое определение маркетингового исследования теперь дополняется необходимостью использования внешних факторов, влияющих или могущих оказать влияние на поведение фирмы и ее продукции на рынке, на ее взаимодействие с партнерами и конкурентами. Вследствие этого потребовалась философия и функция, связанные с идентифицированием, опознанием и поиском результатов практики на фирмах партеров, конкурентов и в смежных отраслях, с целью их использования на собственных фирмах для повышения производи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>
            <a:hlinkClick r:id="rId1"/>
          </p:cNvPr>
          <p:cNvSpPr/>
          <p:nvPr/>
        </p:nvSpPr>
        <p:spPr>
          <a:xfrm>
            <a:off x="4859280" y="6165720"/>
            <a:ext cx="649440" cy="69228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24">
                <a:moveTo>
                  <a:pt x="0" y="0"/>
                </a:moveTo>
                <a:lnTo>
                  <a:pt x="21600" y="0"/>
                </a:lnTo>
                <a:lnTo>
                  <a:pt x="21600" y="23024"/>
                </a:lnTo>
                <a:lnTo>
                  <a:pt x="0" y="23024"/>
                </a:lnTo>
                <a:close/>
              </a:path>
              <a:path fill="lightenLess" w="21600" h="23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24">
                <a:moveTo>
                  <a:pt x="21600" y="0"/>
                </a:moveTo>
                <a:lnTo>
                  <a:pt x="21600" y="23024"/>
                </a:lnTo>
                <a:lnTo>
                  <a:pt x="20200" y="21624"/>
                </a:lnTo>
                <a:lnTo>
                  <a:pt x="20200" y="1400"/>
                </a:lnTo>
                <a:close/>
              </a:path>
              <a:path fill="darkenLess" w="21600" h="23024">
                <a:moveTo>
                  <a:pt x="21600" y="23024"/>
                </a:moveTo>
                <a:lnTo>
                  <a:pt x="0" y="23024"/>
                </a:lnTo>
                <a:lnTo>
                  <a:pt x="1400" y="21624"/>
                </a:lnTo>
                <a:lnTo>
                  <a:pt x="20200" y="21624"/>
                </a:lnTo>
                <a:close/>
              </a:path>
              <a:path fill="lighten" w="21600" h="23024">
                <a:moveTo>
                  <a:pt x="0" y="23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24"/>
                </a:lnTo>
                <a:close/>
              </a:path>
              <a:path fill="darken" w="21600" h="23024">
                <a:moveTo>
                  <a:pt x="10800" y="4549"/>
                </a:moveTo>
                <a:lnTo>
                  <a:pt x="13376" y="7160"/>
                </a:lnTo>
                <a:lnTo>
                  <a:pt x="13376" y="5419"/>
                </a:lnTo>
                <a:lnTo>
                  <a:pt x="15152" y="5419"/>
                </a:lnTo>
                <a:lnTo>
                  <a:pt x="15152" y="8936"/>
                </a:lnTo>
                <a:lnTo>
                  <a:pt x="17763" y="11512"/>
                </a:lnTo>
                <a:lnTo>
                  <a:pt x="16109" y="11512"/>
                </a:lnTo>
                <a:lnTo>
                  <a:pt x="16109" y="18701"/>
                </a:lnTo>
                <a:lnTo>
                  <a:pt x="5491" y="18701"/>
                </a:lnTo>
                <a:lnTo>
                  <a:pt x="5491" y="11512"/>
                </a:lnTo>
                <a:lnTo>
                  <a:pt x="3837" y="11512"/>
                </a:lnTo>
                <a:close/>
              </a:path>
              <a:path fill="darkenLess" w="21600" h="23024">
                <a:moveTo>
                  <a:pt x="13376" y="7160"/>
                </a:moveTo>
                <a:lnTo>
                  <a:pt x="13376" y="5419"/>
                </a:lnTo>
                <a:lnTo>
                  <a:pt x="15152" y="5419"/>
                </a:lnTo>
                <a:lnTo>
                  <a:pt x="15152" y="8936"/>
                </a:lnTo>
                <a:close/>
              </a:path>
              <a:path fill="darkenLess" w="21600" h="23024">
                <a:moveTo>
                  <a:pt x="9877" y="15011"/>
                </a:moveTo>
                <a:lnTo>
                  <a:pt x="11723" y="15011"/>
                </a:lnTo>
                <a:lnTo>
                  <a:pt x="11723" y="18701"/>
                </a:lnTo>
                <a:lnTo>
                  <a:pt x="16109" y="18701"/>
                </a:lnTo>
                <a:lnTo>
                  <a:pt x="16109" y="11512"/>
                </a:lnTo>
                <a:lnTo>
                  <a:pt x="5491" y="11512"/>
                </a:lnTo>
                <a:lnTo>
                  <a:pt x="5491" y="18701"/>
                </a:lnTo>
                <a:lnTo>
                  <a:pt x="9877" y="18701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>
            <a:hlinkClick r:id="" action="ppaction://hlinkshowjump?jump=previousslide"/>
          </p:cNvPr>
          <p:cNvSpPr/>
          <p:nvPr/>
        </p:nvSpPr>
        <p:spPr>
          <a:xfrm>
            <a:off x="392436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3794" y="11544"/>
                </a:moveTo>
                <a:lnTo>
                  <a:pt x="17806" y="4538"/>
                </a:lnTo>
                <a:lnTo>
                  <a:pt x="17806" y="18550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>
            <a:hlinkClick r:id="" action="ppaction://hlinkshowjump?jump=nextslide"/>
            <a:hlinkClick r:id="rId2"/>
          </p:cNvPr>
          <p:cNvSpPr/>
          <p:nvPr/>
        </p:nvSpPr>
        <p:spPr>
          <a:xfrm>
            <a:off x="5724360" y="6165720"/>
            <a:ext cx="719280" cy="692280"/>
          </a:xfrm>
          <a:custGeom>
            <a:avLst/>
            <a:gdLst>
              <a:gd name="textAreaLeft" fmla="*/ 44640 w 719280"/>
              <a:gd name="textAreaRight" fmla="*/ 674640 w 719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42" h="21600">
                <a:moveTo>
                  <a:pt x="0" y="0"/>
                </a:moveTo>
                <a:lnTo>
                  <a:pt x="22442" y="0"/>
                </a:lnTo>
                <a:lnTo>
                  <a:pt x="22442" y="21600"/>
                </a:lnTo>
                <a:lnTo>
                  <a:pt x="0" y="21600"/>
                </a:lnTo>
                <a:close/>
              </a:path>
              <a:path fill="lightenLess" w="22442" h="21600">
                <a:moveTo>
                  <a:pt x="0" y="0"/>
                </a:moveTo>
                <a:lnTo>
                  <a:pt x="22442" y="0"/>
                </a:lnTo>
                <a:lnTo>
                  <a:pt x="21042" y="1400"/>
                </a:lnTo>
                <a:lnTo>
                  <a:pt x="1400" y="1400"/>
                </a:lnTo>
                <a:close/>
              </a:path>
              <a:path fill="darken" w="22442" h="21600">
                <a:moveTo>
                  <a:pt x="22442" y="0"/>
                </a:moveTo>
                <a:lnTo>
                  <a:pt x="22442" y="21600"/>
                </a:lnTo>
                <a:lnTo>
                  <a:pt x="21042" y="20200"/>
                </a:lnTo>
                <a:lnTo>
                  <a:pt x="21042" y="1400"/>
                </a:lnTo>
                <a:close/>
              </a:path>
              <a:path fill="darkenLess" w="22442" h="21600">
                <a:moveTo>
                  <a:pt x="22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42" y="20200"/>
                </a:lnTo>
                <a:close/>
              </a:path>
              <a:path fill="lighten" w="22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42" h="21600">
                <a:moveTo>
                  <a:pt x="4215" y="3794"/>
                </a:moveTo>
                <a:lnTo>
                  <a:pt x="18227" y="10800"/>
                </a:lnTo>
                <a:lnTo>
                  <a:pt x="4215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>
            <a:hlinkClick r:id="rId1"/>
          </p:cNvPr>
          <p:cNvSpPr/>
          <p:nvPr/>
        </p:nvSpPr>
        <p:spPr>
          <a:xfrm>
            <a:off x="5003640" y="4941720"/>
            <a:ext cx="863640" cy="93528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35280"/>
              <a:gd name="textAreaBottom" fmla="*/ 879480 h 935280"/>
            </a:gdLst>
            <a:ahLst/>
            <a:rect l="textAreaLeft" t="textAreaTop" r="textAreaRight" b="textAreaBottom"/>
            <a:pathLst>
              <a:path w="21600" h="23391">
                <a:moveTo>
                  <a:pt x="0" y="0"/>
                </a:moveTo>
                <a:lnTo>
                  <a:pt x="21600" y="0"/>
                </a:lnTo>
                <a:lnTo>
                  <a:pt x="21600" y="23391"/>
                </a:lnTo>
                <a:lnTo>
                  <a:pt x="0" y="23391"/>
                </a:lnTo>
                <a:close/>
              </a:path>
              <a:path fill="lightenLess" w="21600" h="233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1">
                <a:moveTo>
                  <a:pt x="21600" y="0"/>
                </a:moveTo>
                <a:lnTo>
                  <a:pt x="21600" y="23391"/>
                </a:lnTo>
                <a:lnTo>
                  <a:pt x="20200" y="21991"/>
                </a:lnTo>
                <a:lnTo>
                  <a:pt x="20200" y="1400"/>
                </a:lnTo>
                <a:close/>
              </a:path>
              <a:path fill="darkenLess" w="21600" h="23391">
                <a:moveTo>
                  <a:pt x="21600" y="23391"/>
                </a:moveTo>
                <a:lnTo>
                  <a:pt x="0" y="23391"/>
                </a:lnTo>
                <a:lnTo>
                  <a:pt x="1400" y="21991"/>
                </a:lnTo>
                <a:lnTo>
                  <a:pt x="20200" y="21991"/>
                </a:lnTo>
                <a:close/>
              </a:path>
              <a:path fill="lighten" w="21600" h="23391">
                <a:moveTo>
                  <a:pt x="0" y="233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1"/>
                </a:lnTo>
                <a:close/>
              </a:path>
              <a:path fill="darken" w="21600" h="23391">
                <a:moveTo>
                  <a:pt x="10800" y="4733"/>
                </a:moveTo>
                <a:lnTo>
                  <a:pt x="13376" y="7344"/>
                </a:lnTo>
                <a:lnTo>
                  <a:pt x="13376" y="5603"/>
                </a:lnTo>
                <a:lnTo>
                  <a:pt x="15152" y="5603"/>
                </a:lnTo>
                <a:lnTo>
                  <a:pt x="15152" y="9119"/>
                </a:lnTo>
                <a:lnTo>
                  <a:pt x="17763" y="11696"/>
                </a:lnTo>
                <a:lnTo>
                  <a:pt x="16109" y="11696"/>
                </a:lnTo>
                <a:lnTo>
                  <a:pt x="16109" y="18885"/>
                </a:lnTo>
                <a:lnTo>
                  <a:pt x="5491" y="18885"/>
                </a:lnTo>
                <a:lnTo>
                  <a:pt x="5491" y="11696"/>
                </a:lnTo>
                <a:lnTo>
                  <a:pt x="3837" y="11696"/>
                </a:lnTo>
                <a:close/>
              </a:path>
              <a:path fill="darkenLess" w="21600" h="23391">
                <a:moveTo>
                  <a:pt x="13376" y="7344"/>
                </a:moveTo>
                <a:lnTo>
                  <a:pt x="13376" y="5603"/>
                </a:lnTo>
                <a:lnTo>
                  <a:pt x="15152" y="5603"/>
                </a:lnTo>
                <a:lnTo>
                  <a:pt x="15152" y="9119"/>
                </a:lnTo>
                <a:close/>
              </a:path>
              <a:path fill="darkenLess" w="21600" h="23391">
                <a:moveTo>
                  <a:pt x="9877" y="15194"/>
                </a:moveTo>
                <a:lnTo>
                  <a:pt x="11723" y="15194"/>
                </a:lnTo>
                <a:lnTo>
                  <a:pt x="11723" y="18885"/>
                </a:lnTo>
                <a:lnTo>
                  <a:pt x="16109" y="18885"/>
                </a:lnTo>
                <a:lnTo>
                  <a:pt x="16109" y="11696"/>
                </a:lnTo>
                <a:lnTo>
                  <a:pt x="5491" y="11696"/>
                </a:lnTo>
                <a:lnTo>
                  <a:pt x="5491" y="18885"/>
                </a:lnTo>
                <a:lnTo>
                  <a:pt x="9877" y="18885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3924360" y="4941720"/>
            <a:ext cx="792000" cy="93528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935280"/>
              <a:gd name="textAreaBottom" fmla="*/ 884160 h 935280"/>
            </a:gdLst>
            <a:ahLst/>
            <a:rect l="textAreaLeft" t="textAreaTop" r="textAreaRight" b="textAreaBottom"/>
            <a:pathLst>
              <a:path w="21600" h="25506">
                <a:moveTo>
                  <a:pt x="0" y="0"/>
                </a:moveTo>
                <a:lnTo>
                  <a:pt x="21600" y="0"/>
                </a:lnTo>
                <a:lnTo>
                  <a:pt x="21600" y="25506"/>
                </a:lnTo>
                <a:lnTo>
                  <a:pt x="0" y="25506"/>
                </a:lnTo>
                <a:close/>
              </a:path>
              <a:path fill="lightenLess" w="21600" h="255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06">
                <a:moveTo>
                  <a:pt x="21600" y="0"/>
                </a:moveTo>
                <a:lnTo>
                  <a:pt x="21600" y="25506"/>
                </a:lnTo>
                <a:lnTo>
                  <a:pt x="20200" y="24106"/>
                </a:lnTo>
                <a:lnTo>
                  <a:pt x="20200" y="1400"/>
                </a:lnTo>
                <a:close/>
              </a:path>
              <a:path fill="darkenLess" w="21600" h="25506">
                <a:moveTo>
                  <a:pt x="21600" y="25506"/>
                </a:moveTo>
                <a:lnTo>
                  <a:pt x="0" y="25506"/>
                </a:lnTo>
                <a:lnTo>
                  <a:pt x="1400" y="24106"/>
                </a:lnTo>
                <a:lnTo>
                  <a:pt x="20200" y="24106"/>
                </a:lnTo>
                <a:close/>
              </a:path>
              <a:path fill="lighten" w="21600" h="25506">
                <a:moveTo>
                  <a:pt x="0" y="255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06"/>
                </a:lnTo>
                <a:close/>
              </a:path>
              <a:path fill="darken" w="21600" h="25506">
                <a:moveTo>
                  <a:pt x="3794" y="12753"/>
                </a:moveTo>
                <a:lnTo>
                  <a:pt x="17806" y="5746"/>
                </a:lnTo>
                <a:lnTo>
                  <a:pt x="17806" y="1975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>
            <a:hlinkClick r:id="" action="ppaction://hlinkshowjump?jump=endshow"/>
            <a:hlinkClick r:id="rId3"/>
          </p:cNvPr>
          <p:cNvSpPr/>
          <p:nvPr/>
        </p:nvSpPr>
        <p:spPr>
          <a:xfrm>
            <a:off x="6156360" y="4941720"/>
            <a:ext cx="1368360" cy="1008360"/>
          </a:xfrm>
          <a:custGeom>
            <a:avLst/>
            <a:gdLst>
              <a:gd name="textAreaLeft" fmla="*/ 65160 w 1368360"/>
              <a:gd name="textAreaRight" fmla="*/ 1303200 w 136836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29309" h="21600">
                <a:moveTo>
                  <a:pt x="0" y="0"/>
                </a:moveTo>
                <a:lnTo>
                  <a:pt x="29309" y="0"/>
                </a:lnTo>
                <a:lnTo>
                  <a:pt x="29309" y="21600"/>
                </a:lnTo>
                <a:lnTo>
                  <a:pt x="0" y="21600"/>
                </a:lnTo>
                <a:close/>
              </a:path>
              <a:path fill="lightenLess" w="29309" h="21600">
                <a:moveTo>
                  <a:pt x="0" y="0"/>
                </a:moveTo>
                <a:lnTo>
                  <a:pt x="29309" y="0"/>
                </a:lnTo>
                <a:lnTo>
                  <a:pt x="27909" y="1400"/>
                </a:lnTo>
                <a:lnTo>
                  <a:pt x="1400" y="1400"/>
                </a:lnTo>
                <a:close/>
              </a:path>
              <a:path fill="darken" w="29309" h="21600">
                <a:moveTo>
                  <a:pt x="29309" y="0"/>
                </a:moveTo>
                <a:lnTo>
                  <a:pt x="29309" y="21600"/>
                </a:lnTo>
                <a:lnTo>
                  <a:pt x="27909" y="20200"/>
                </a:lnTo>
                <a:lnTo>
                  <a:pt x="27909" y="1400"/>
                </a:lnTo>
                <a:close/>
              </a:path>
              <a:path fill="darkenLess" w="29309" h="21600">
                <a:moveTo>
                  <a:pt x="29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09" y="20200"/>
                </a:lnTo>
                <a:close/>
              </a:path>
              <a:path fill="lighten" w="29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ерш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АКТУАЛЬНОСТЬ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современных условиях регулирования экономики в значительной степени зависит от жизнеспособности системы продвижения товаров и услуг от производителей к потребителям. Однако подобная маркетинговая деятельность невозможна без налаженного информационного отслеживания воспроизводственного процесса, т.к. эффективность производства во многом зависит от знания предприятиями и предпринимателями потребностей рынка товаров и услу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4425840" y="565956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3837"/>
                </a:moveTo>
                <a:lnTo>
                  <a:pt x="15181" y="6448"/>
                </a:lnTo>
                <a:lnTo>
                  <a:pt x="15181" y="4707"/>
                </a:lnTo>
                <a:lnTo>
                  <a:pt x="16956" y="4707"/>
                </a:lnTo>
                <a:lnTo>
                  <a:pt x="16956" y="8224"/>
                </a:lnTo>
                <a:lnTo>
                  <a:pt x="19567" y="10800"/>
                </a:lnTo>
                <a:lnTo>
                  <a:pt x="17914" y="10800"/>
                </a:lnTo>
                <a:lnTo>
                  <a:pt x="17914" y="17989"/>
                </a:lnTo>
                <a:lnTo>
                  <a:pt x="7295" y="17989"/>
                </a:lnTo>
                <a:lnTo>
                  <a:pt x="7295" y="10800"/>
                </a:lnTo>
                <a:lnTo>
                  <a:pt x="5642" y="10800"/>
                </a:lnTo>
                <a:close/>
              </a:path>
              <a:path fill="darkenLess" w="25209" h="21600">
                <a:moveTo>
                  <a:pt x="15181" y="6448"/>
                </a:moveTo>
                <a:lnTo>
                  <a:pt x="15181" y="4707"/>
                </a:lnTo>
                <a:lnTo>
                  <a:pt x="16956" y="4707"/>
                </a:lnTo>
                <a:lnTo>
                  <a:pt x="16956" y="8224"/>
                </a:lnTo>
                <a:close/>
              </a:path>
              <a:path fill="darkenLess" w="25209" h="21600">
                <a:moveTo>
                  <a:pt x="11682" y="14299"/>
                </a:moveTo>
                <a:lnTo>
                  <a:pt x="13527" y="14299"/>
                </a:lnTo>
                <a:lnTo>
                  <a:pt x="13527" y="17989"/>
                </a:lnTo>
                <a:lnTo>
                  <a:pt x="17914" y="17989"/>
                </a:lnTo>
                <a:lnTo>
                  <a:pt x="17914" y="10800"/>
                </a:lnTo>
                <a:lnTo>
                  <a:pt x="7295" y="10800"/>
                </a:lnTo>
                <a:lnTo>
                  <a:pt x="7295" y="17989"/>
                </a:lnTo>
                <a:lnTo>
                  <a:pt x="11682" y="1798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2914560" y="5659560"/>
            <a:ext cx="1150920" cy="863640"/>
          </a:xfrm>
          <a:custGeom>
            <a:avLst/>
            <a:gdLst>
              <a:gd name="textAreaLeft" fmla="*/ 55800 w 1150920"/>
              <a:gd name="textAreaRight" fmla="*/ 1095120 w 1150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8782" h="21600">
                <a:moveTo>
                  <a:pt x="0" y="0"/>
                </a:moveTo>
                <a:lnTo>
                  <a:pt x="28782" y="0"/>
                </a:lnTo>
                <a:lnTo>
                  <a:pt x="28782" y="21600"/>
                </a:lnTo>
                <a:lnTo>
                  <a:pt x="0" y="21600"/>
                </a:lnTo>
                <a:close/>
              </a:path>
              <a:path fill="lightenLess" w="28782" h="21600">
                <a:moveTo>
                  <a:pt x="0" y="0"/>
                </a:moveTo>
                <a:lnTo>
                  <a:pt x="28782" y="0"/>
                </a:lnTo>
                <a:lnTo>
                  <a:pt x="27382" y="1400"/>
                </a:lnTo>
                <a:lnTo>
                  <a:pt x="1400" y="1400"/>
                </a:lnTo>
                <a:close/>
              </a:path>
              <a:path fill="darken" w="28782" h="21600">
                <a:moveTo>
                  <a:pt x="28782" y="0"/>
                </a:moveTo>
                <a:lnTo>
                  <a:pt x="28782" y="21600"/>
                </a:lnTo>
                <a:lnTo>
                  <a:pt x="27382" y="20200"/>
                </a:lnTo>
                <a:lnTo>
                  <a:pt x="27382" y="1400"/>
                </a:lnTo>
                <a:close/>
              </a:path>
              <a:path fill="darkenLess" w="28782" h="21600">
                <a:moveTo>
                  <a:pt x="28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2" y="20200"/>
                </a:lnTo>
                <a:close/>
              </a:path>
              <a:path fill="lighten" w="28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2" h="21600">
                <a:moveTo>
                  <a:pt x="7385" y="10800"/>
                </a:moveTo>
                <a:lnTo>
                  <a:pt x="21397" y="3794"/>
                </a:lnTo>
                <a:lnTo>
                  <a:pt x="21397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5792760" y="565956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4685" y="3794"/>
                </a:moveTo>
                <a:lnTo>
                  <a:pt x="18697" y="10800"/>
                </a:lnTo>
                <a:lnTo>
                  <a:pt x="4685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АКТУАЛЬНОСТЬ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4005c"/>
                </a:solidFill>
                <a:uFillTx/>
                <a:latin typeface="Arial"/>
              </a:rPr>
              <a:t>Повышенный интерес к стратегическому анализу и маркетинговым исследованиям обусловлен такж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Ростом конкуренции на всех уровн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Усилением интеграционных процессов и глобализ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Ускорением движения информационных потоков и скорости обмена информац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4643280" y="5805360"/>
            <a:ext cx="1081080" cy="863640"/>
          </a:xfrm>
          <a:custGeom>
            <a:avLst/>
            <a:gdLst>
              <a:gd name="textAreaLeft" fmla="*/ 55800 w 1081080"/>
              <a:gd name="textAreaRight" fmla="*/ 1025280 w 10810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7036" h="21600">
                <a:moveTo>
                  <a:pt x="0" y="0"/>
                </a:moveTo>
                <a:lnTo>
                  <a:pt x="27036" y="0"/>
                </a:lnTo>
                <a:lnTo>
                  <a:pt x="27036" y="21600"/>
                </a:lnTo>
                <a:lnTo>
                  <a:pt x="0" y="21600"/>
                </a:lnTo>
                <a:close/>
              </a:path>
              <a:path fill="lightenLess" w="27036" h="21600">
                <a:moveTo>
                  <a:pt x="0" y="0"/>
                </a:moveTo>
                <a:lnTo>
                  <a:pt x="27036" y="0"/>
                </a:lnTo>
                <a:lnTo>
                  <a:pt x="25636" y="1400"/>
                </a:lnTo>
                <a:lnTo>
                  <a:pt x="1400" y="1400"/>
                </a:lnTo>
                <a:close/>
              </a:path>
              <a:path fill="darken" w="27036" h="21600">
                <a:moveTo>
                  <a:pt x="27036" y="0"/>
                </a:moveTo>
                <a:lnTo>
                  <a:pt x="27036" y="21600"/>
                </a:lnTo>
                <a:lnTo>
                  <a:pt x="25636" y="20200"/>
                </a:lnTo>
                <a:lnTo>
                  <a:pt x="25636" y="1400"/>
                </a:lnTo>
                <a:close/>
              </a:path>
              <a:path fill="darkenLess" w="27036" h="21600">
                <a:moveTo>
                  <a:pt x="27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6" y="20200"/>
                </a:lnTo>
                <a:close/>
              </a:path>
              <a:path fill="lighten" w="27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6" h="21600">
                <a:moveTo>
                  <a:pt x="13518" y="3837"/>
                </a:moveTo>
                <a:lnTo>
                  <a:pt x="16094" y="6448"/>
                </a:lnTo>
                <a:lnTo>
                  <a:pt x="16094" y="4707"/>
                </a:lnTo>
                <a:lnTo>
                  <a:pt x="17870" y="4707"/>
                </a:lnTo>
                <a:lnTo>
                  <a:pt x="17870" y="8224"/>
                </a:lnTo>
                <a:lnTo>
                  <a:pt x="20481" y="10800"/>
                </a:lnTo>
                <a:lnTo>
                  <a:pt x="18827" y="10800"/>
                </a:lnTo>
                <a:lnTo>
                  <a:pt x="18827" y="17989"/>
                </a:lnTo>
                <a:lnTo>
                  <a:pt x="8209" y="17989"/>
                </a:lnTo>
                <a:lnTo>
                  <a:pt x="8209" y="10800"/>
                </a:lnTo>
                <a:lnTo>
                  <a:pt x="6555" y="10800"/>
                </a:lnTo>
                <a:close/>
              </a:path>
              <a:path fill="darkenLess" w="27036" h="21600">
                <a:moveTo>
                  <a:pt x="16094" y="6448"/>
                </a:moveTo>
                <a:lnTo>
                  <a:pt x="16094" y="4707"/>
                </a:lnTo>
                <a:lnTo>
                  <a:pt x="17870" y="4707"/>
                </a:lnTo>
                <a:lnTo>
                  <a:pt x="17870" y="8224"/>
                </a:lnTo>
                <a:close/>
              </a:path>
              <a:path fill="darkenLess" w="27036" h="21600">
                <a:moveTo>
                  <a:pt x="12595" y="14299"/>
                </a:moveTo>
                <a:lnTo>
                  <a:pt x="14441" y="14299"/>
                </a:lnTo>
                <a:lnTo>
                  <a:pt x="14441" y="17989"/>
                </a:lnTo>
                <a:lnTo>
                  <a:pt x="18827" y="17989"/>
                </a:lnTo>
                <a:lnTo>
                  <a:pt x="18827" y="10800"/>
                </a:lnTo>
                <a:lnTo>
                  <a:pt x="8209" y="10800"/>
                </a:lnTo>
                <a:lnTo>
                  <a:pt x="8209" y="17989"/>
                </a:lnTo>
                <a:lnTo>
                  <a:pt x="12595" y="1798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5796000" y="5805360"/>
            <a:ext cx="792000" cy="863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53">
                <a:moveTo>
                  <a:pt x="0" y="0"/>
                </a:moveTo>
                <a:lnTo>
                  <a:pt x="21600" y="0"/>
                </a:lnTo>
                <a:lnTo>
                  <a:pt x="21600" y="23553"/>
                </a:lnTo>
                <a:lnTo>
                  <a:pt x="0" y="23553"/>
                </a:lnTo>
                <a:close/>
              </a:path>
              <a:path fill="lightenLess" w="21600" h="235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3">
                <a:moveTo>
                  <a:pt x="21600" y="0"/>
                </a:moveTo>
                <a:lnTo>
                  <a:pt x="21600" y="23553"/>
                </a:lnTo>
                <a:lnTo>
                  <a:pt x="20200" y="22153"/>
                </a:lnTo>
                <a:lnTo>
                  <a:pt x="20200" y="1400"/>
                </a:lnTo>
                <a:close/>
              </a:path>
              <a:path fill="darkenLess" w="21600" h="23553">
                <a:moveTo>
                  <a:pt x="21600" y="23553"/>
                </a:moveTo>
                <a:lnTo>
                  <a:pt x="0" y="23553"/>
                </a:lnTo>
                <a:lnTo>
                  <a:pt x="1400" y="22153"/>
                </a:lnTo>
                <a:lnTo>
                  <a:pt x="20200" y="22153"/>
                </a:lnTo>
                <a:close/>
              </a:path>
              <a:path fill="lighten" w="21600" h="23553">
                <a:moveTo>
                  <a:pt x="0" y="235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3"/>
                </a:lnTo>
                <a:close/>
              </a:path>
              <a:path fill="darken" w="21600" h="23553">
                <a:moveTo>
                  <a:pt x="3794" y="4770"/>
                </a:moveTo>
                <a:lnTo>
                  <a:pt x="17806" y="11776"/>
                </a:lnTo>
                <a:lnTo>
                  <a:pt x="3794" y="18783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>
            <a:hlinkClick r:id="" action="ppaction://hlinkshowjump?jump=previousslide"/>
            <a:hlinkClick r:id="rId3"/>
          </p:cNvPr>
          <p:cNvSpPr/>
          <p:nvPr/>
        </p:nvSpPr>
        <p:spPr>
          <a:xfrm>
            <a:off x="3708360" y="5805360"/>
            <a:ext cx="789120" cy="863640"/>
          </a:xfrm>
          <a:custGeom>
            <a:avLst/>
            <a:gdLst>
              <a:gd name="textAreaLeft" fmla="*/ 51120 w 789120"/>
              <a:gd name="textAreaRight" fmla="*/ 738000 w 78912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639">
                <a:moveTo>
                  <a:pt x="0" y="0"/>
                </a:moveTo>
                <a:lnTo>
                  <a:pt x="21600" y="0"/>
                </a:lnTo>
                <a:lnTo>
                  <a:pt x="21600" y="23639"/>
                </a:lnTo>
                <a:lnTo>
                  <a:pt x="0" y="23639"/>
                </a:lnTo>
                <a:close/>
              </a:path>
              <a:path fill="lightenLess" w="21600" h="236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9">
                <a:moveTo>
                  <a:pt x="21600" y="0"/>
                </a:moveTo>
                <a:lnTo>
                  <a:pt x="21600" y="23639"/>
                </a:lnTo>
                <a:lnTo>
                  <a:pt x="20200" y="22239"/>
                </a:lnTo>
                <a:lnTo>
                  <a:pt x="20200" y="1400"/>
                </a:lnTo>
                <a:close/>
              </a:path>
              <a:path fill="darkenLess" w="21600" h="23639">
                <a:moveTo>
                  <a:pt x="21600" y="23639"/>
                </a:moveTo>
                <a:lnTo>
                  <a:pt x="0" y="23639"/>
                </a:lnTo>
                <a:lnTo>
                  <a:pt x="1400" y="22239"/>
                </a:lnTo>
                <a:lnTo>
                  <a:pt x="20200" y="22239"/>
                </a:lnTo>
                <a:close/>
              </a:path>
              <a:path fill="lighten" w="21600" h="23639">
                <a:moveTo>
                  <a:pt x="0" y="236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9"/>
                </a:lnTo>
                <a:close/>
              </a:path>
              <a:path fill="darken" w="21600" h="23639">
                <a:moveTo>
                  <a:pt x="3794" y="11819"/>
                </a:moveTo>
                <a:lnTo>
                  <a:pt x="17806" y="4813"/>
                </a:lnTo>
                <a:lnTo>
                  <a:pt x="17806" y="1882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АКТУАЛЬНОСТЬ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Успешность любой компании напрямую зависит от того, насколько быстро она получает актуальную информацию и как ее обрабат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овательно, «Кто владеет информацией – владеет миро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4643280" y="5734080"/>
            <a:ext cx="936720" cy="7905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5592" h="21600">
                <a:moveTo>
                  <a:pt x="0" y="0"/>
                </a:moveTo>
                <a:lnTo>
                  <a:pt x="25592" y="0"/>
                </a:lnTo>
                <a:lnTo>
                  <a:pt x="25592" y="21600"/>
                </a:lnTo>
                <a:lnTo>
                  <a:pt x="0" y="21600"/>
                </a:lnTo>
                <a:close/>
              </a:path>
              <a:path fill="lightenLess" w="25592" h="21600">
                <a:moveTo>
                  <a:pt x="0" y="0"/>
                </a:moveTo>
                <a:lnTo>
                  <a:pt x="25592" y="0"/>
                </a:lnTo>
                <a:lnTo>
                  <a:pt x="24192" y="1400"/>
                </a:lnTo>
                <a:lnTo>
                  <a:pt x="1400" y="1400"/>
                </a:lnTo>
                <a:close/>
              </a:path>
              <a:path fill="darken" w="25592" h="21600">
                <a:moveTo>
                  <a:pt x="25592" y="0"/>
                </a:moveTo>
                <a:lnTo>
                  <a:pt x="25592" y="21600"/>
                </a:lnTo>
                <a:lnTo>
                  <a:pt x="24192" y="20200"/>
                </a:lnTo>
                <a:lnTo>
                  <a:pt x="24192" y="1400"/>
                </a:lnTo>
                <a:close/>
              </a:path>
              <a:path fill="darkenLess" w="25592" h="21600">
                <a:moveTo>
                  <a:pt x="2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2" y="20200"/>
                </a:lnTo>
                <a:close/>
              </a:path>
              <a:path fill="lighten" w="2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2" h="21600">
                <a:moveTo>
                  <a:pt x="12796" y="3837"/>
                </a:moveTo>
                <a:lnTo>
                  <a:pt x="15372" y="6448"/>
                </a:lnTo>
                <a:lnTo>
                  <a:pt x="15372" y="4707"/>
                </a:lnTo>
                <a:lnTo>
                  <a:pt x="17148" y="4707"/>
                </a:lnTo>
                <a:lnTo>
                  <a:pt x="17148" y="8224"/>
                </a:lnTo>
                <a:lnTo>
                  <a:pt x="19759" y="10800"/>
                </a:lnTo>
                <a:lnTo>
                  <a:pt x="18105" y="10800"/>
                </a:lnTo>
                <a:lnTo>
                  <a:pt x="18105" y="17989"/>
                </a:lnTo>
                <a:lnTo>
                  <a:pt x="7487" y="17989"/>
                </a:lnTo>
                <a:lnTo>
                  <a:pt x="7487" y="10800"/>
                </a:lnTo>
                <a:lnTo>
                  <a:pt x="5833" y="10800"/>
                </a:lnTo>
                <a:close/>
              </a:path>
              <a:path fill="darkenLess" w="25592" h="21600">
                <a:moveTo>
                  <a:pt x="15372" y="6448"/>
                </a:moveTo>
                <a:lnTo>
                  <a:pt x="15372" y="4707"/>
                </a:lnTo>
                <a:lnTo>
                  <a:pt x="17148" y="4707"/>
                </a:lnTo>
                <a:lnTo>
                  <a:pt x="17148" y="8224"/>
                </a:lnTo>
                <a:close/>
              </a:path>
              <a:path fill="darkenLess" w="25592" h="21600">
                <a:moveTo>
                  <a:pt x="11873" y="14299"/>
                </a:moveTo>
                <a:lnTo>
                  <a:pt x="13718" y="14299"/>
                </a:lnTo>
                <a:lnTo>
                  <a:pt x="13718" y="17989"/>
                </a:lnTo>
                <a:lnTo>
                  <a:pt x="18105" y="17989"/>
                </a:lnTo>
                <a:lnTo>
                  <a:pt x="18105" y="10800"/>
                </a:lnTo>
                <a:lnTo>
                  <a:pt x="7487" y="10800"/>
                </a:lnTo>
                <a:lnTo>
                  <a:pt x="7487" y="17989"/>
                </a:lnTo>
                <a:lnTo>
                  <a:pt x="11873" y="1798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" action="ppaction://hlinkshowjump?jump=nextslide"/>
          </p:cNvPr>
          <p:cNvSpPr/>
          <p:nvPr/>
        </p:nvSpPr>
        <p:spPr>
          <a:xfrm>
            <a:off x="5796000" y="573408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3" h="21600">
                <a:moveTo>
                  <a:pt x="4770" y="3794"/>
                </a:moveTo>
                <a:lnTo>
                  <a:pt x="18783" y="10800"/>
                </a:lnTo>
                <a:lnTo>
                  <a:pt x="4770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previousslide"/>
            <a:hlinkClick r:id="rId2"/>
          </p:cNvPr>
          <p:cNvSpPr/>
          <p:nvPr/>
        </p:nvSpPr>
        <p:spPr>
          <a:xfrm>
            <a:off x="3564000" y="5734080"/>
            <a:ext cx="788760" cy="790560"/>
          </a:xfrm>
          <a:custGeom>
            <a:avLst/>
            <a:gdLst>
              <a:gd name="textAreaLeft" fmla="*/ 51120 w 788760"/>
              <a:gd name="textAreaRight" fmla="*/ 737640 w 78876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1600" h="21649">
                <a:moveTo>
                  <a:pt x="0" y="0"/>
                </a:moveTo>
                <a:lnTo>
                  <a:pt x="21600" y="0"/>
                </a:lnTo>
                <a:lnTo>
                  <a:pt x="21600" y="21649"/>
                </a:lnTo>
                <a:lnTo>
                  <a:pt x="0" y="21649"/>
                </a:lnTo>
                <a:close/>
              </a:path>
              <a:path fill="lightenLess" w="21600" h="216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9">
                <a:moveTo>
                  <a:pt x="21600" y="0"/>
                </a:moveTo>
                <a:lnTo>
                  <a:pt x="21600" y="21649"/>
                </a:lnTo>
                <a:lnTo>
                  <a:pt x="20200" y="20249"/>
                </a:lnTo>
                <a:lnTo>
                  <a:pt x="20200" y="1400"/>
                </a:lnTo>
                <a:close/>
              </a:path>
              <a:path fill="darkenLess" w="21600" h="21649">
                <a:moveTo>
                  <a:pt x="21600" y="21649"/>
                </a:moveTo>
                <a:lnTo>
                  <a:pt x="0" y="21649"/>
                </a:lnTo>
                <a:lnTo>
                  <a:pt x="1400" y="20249"/>
                </a:lnTo>
                <a:lnTo>
                  <a:pt x="20200" y="20249"/>
                </a:lnTo>
                <a:close/>
              </a:path>
              <a:path fill="lighten" w="21600" h="21649">
                <a:moveTo>
                  <a:pt x="0" y="216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9"/>
                </a:lnTo>
                <a:close/>
              </a:path>
              <a:path fill="darken" w="21600" h="21649">
                <a:moveTo>
                  <a:pt x="3794" y="10825"/>
                </a:moveTo>
                <a:lnTo>
                  <a:pt x="17806" y="3818"/>
                </a:lnTo>
                <a:lnTo>
                  <a:pt x="17806" y="17831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АКТУЛЬНОСТЬ ИССЛЕДОВАНИЯ КОНДИТЕРСКОЙ ОТРАСЛИ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Концепции и подходы анализа отраслевого маркетинга являются малоизучен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Кондитерская отрасль относится к категории «растущих отраслей», следовательно обладает большим потенциалом и возможностями ро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rId1" action="ppaction://hlinksldjump"/>
          </p:cNvPr>
          <p:cNvSpPr/>
          <p:nvPr/>
        </p:nvSpPr>
        <p:spPr>
          <a:xfrm>
            <a:off x="4425840" y="5661000"/>
            <a:ext cx="938160" cy="863640"/>
          </a:xfrm>
          <a:custGeom>
            <a:avLst/>
            <a:gdLst>
              <a:gd name="textAreaLeft" fmla="*/ 55800 w 938160"/>
              <a:gd name="textAreaRight" fmla="*/ 882360 w 9381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63" h="21600">
                <a:moveTo>
                  <a:pt x="0" y="0"/>
                </a:moveTo>
                <a:lnTo>
                  <a:pt x="23463" y="0"/>
                </a:lnTo>
                <a:lnTo>
                  <a:pt x="23463" y="21600"/>
                </a:lnTo>
                <a:lnTo>
                  <a:pt x="0" y="21600"/>
                </a:lnTo>
                <a:close/>
              </a:path>
              <a:path fill="lightenLess" w="23463" h="21600">
                <a:moveTo>
                  <a:pt x="0" y="0"/>
                </a:moveTo>
                <a:lnTo>
                  <a:pt x="23463" y="0"/>
                </a:lnTo>
                <a:lnTo>
                  <a:pt x="22063" y="1400"/>
                </a:lnTo>
                <a:lnTo>
                  <a:pt x="1400" y="1400"/>
                </a:lnTo>
                <a:close/>
              </a:path>
              <a:path fill="darken" w="23463" h="21600">
                <a:moveTo>
                  <a:pt x="23463" y="0"/>
                </a:moveTo>
                <a:lnTo>
                  <a:pt x="23463" y="21600"/>
                </a:lnTo>
                <a:lnTo>
                  <a:pt x="22063" y="20200"/>
                </a:lnTo>
                <a:lnTo>
                  <a:pt x="22063" y="1400"/>
                </a:lnTo>
                <a:close/>
              </a:path>
              <a:path fill="darkenLess" w="23463" h="21600">
                <a:moveTo>
                  <a:pt x="23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63" y="20200"/>
                </a:lnTo>
                <a:close/>
              </a:path>
              <a:path fill="lighten" w="23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63" h="21600">
                <a:moveTo>
                  <a:pt x="11732" y="3837"/>
                </a:moveTo>
                <a:lnTo>
                  <a:pt x="14308" y="6448"/>
                </a:lnTo>
                <a:lnTo>
                  <a:pt x="14308" y="4707"/>
                </a:lnTo>
                <a:lnTo>
                  <a:pt x="16083" y="4707"/>
                </a:lnTo>
                <a:lnTo>
                  <a:pt x="16083" y="8224"/>
                </a:lnTo>
                <a:lnTo>
                  <a:pt x="18694" y="10800"/>
                </a:lnTo>
                <a:lnTo>
                  <a:pt x="17041" y="10800"/>
                </a:lnTo>
                <a:lnTo>
                  <a:pt x="17041" y="17989"/>
                </a:lnTo>
                <a:lnTo>
                  <a:pt x="6422" y="17989"/>
                </a:lnTo>
                <a:lnTo>
                  <a:pt x="6422" y="10800"/>
                </a:lnTo>
                <a:lnTo>
                  <a:pt x="4769" y="10800"/>
                </a:lnTo>
                <a:close/>
              </a:path>
              <a:path fill="darkenLess" w="23463" h="21600">
                <a:moveTo>
                  <a:pt x="14308" y="6448"/>
                </a:moveTo>
                <a:lnTo>
                  <a:pt x="14308" y="4707"/>
                </a:lnTo>
                <a:lnTo>
                  <a:pt x="16083" y="4707"/>
                </a:lnTo>
                <a:lnTo>
                  <a:pt x="16083" y="8224"/>
                </a:lnTo>
                <a:close/>
              </a:path>
              <a:path fill="darkenLess" w="23463" h="21600">
                <a:moveTo>
                  <a:pt x="10809" y="14299"/>
                </a:moveTo>
                <a:lnTo>
                  <a:pt x="12654" y="14299"/>
                </a:lnTo>
                <a:lnTo>
                  <a:pt x="12654" y="17989"/>
                </a:lnTo>
                <a:lnTo>
                  <a:pt x="17041" y="17989"/>
                </a:lnTo>
                <a:lnTo>
                  <a:pt x="17041" y="10800"/>
                </a:lnTo>
                <a:lnTo>
                  <a:pt x="6422" y="10800"/>
                </a:lnTo>
                <a:lnTo>
                  <a:pt x="6422" y="17989"/>
                </a:lnTo>
                <a:lnTo>
                  <a:pt x="10809" y="1798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5508720" y="5661000"/>
            <a:ext cx="720720" cy="7938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3800"/>
              <a:gd name="textAreaBottom" fmla="*/ 747360 h 793800"/>
            </a:gdLst>
            <a:ahLst/>
            <a:rect l="textAreaLeft" t="textAreaTop" r="textAreaRight" b="textAreaBottom"/>
            <a:pathLst>
              <a:path w="21600" h="23789">
                <a:moveTo>
                  <a:pt x="0" y="0"/>
                </a:moveTo>
                <a:lnTo>
                  <a:pt x="21600" y="0"/>
                </a:lnTo>
                <a:lnTo>
                  <a:pt x="21600" y="23789"/>
                </a:lnTo>
                <a:lnTo>
                  <a:pt x="0" y="23789"/>
                </a:lnTo>
                <a:close/>
              </a:path>
              <a:path fill="lightenLess" w="21600" h="23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9">
                <a:moveTo>
                  <a:pt x="21600" y="0"/>
                </a:moveTo>
                <a:lnTo>
                  <a:pt x="21600" y="23789"/>
                </a:lnTo>
                <a:lnTo>
                  <a:pt x="20200" y="22389"/>
                </a:lnTo>
                <a:lnTo>
                  <a:pt x="20200" y="1400"/>
                </a:lnTo>
                <a:close/>
              </a:path>
              <a:path fill="darkenLess" w="21600" h="23789">
                <a:moveTo>
                  <a:pt x="21600" y="23789"/>
                </a:moveTo>
                <a:lnTo>
                  <a:pt x="0" y="23789"/>
                </a:lnTo>
                <a:lnTo>
                  <a:pt x="1400" y="22389"/>
                </a:lnTo>
                <a:lnTo>
                  <a:pt x="20200" y="22389"/>
                </a:lnTo>
                <a:close/>
              </a:path>
              <a:path fill="lighten" w="21600" h="23789">
                <a:moveTo>
                  <a:pt x="0" y="23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9"/>
                </a:lnTo>
                <a:close/>
              </a:path>
              <a:path fill="darken" w="21600" h="23789">
                <a:moveTo>
                  <a:pt x="3794" y="4888"/>
                </a:moveTo>
                <a:lnTo>
                  <a:pt x="17806" y="11895"/>
                </a:lnTo>
                <a:lnTo>
                  <a:pt x="3794" y="18901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>
            <a:hlinkClick r:id="" action="ppaction://hlinkshowjump?jump=previousslide"/>
            <a:hlinkClick r:id="rId3"/>
          </p:cNvPr>
          <p:cNvSpPr/>
          <p:nvPr/>
        </p:nvSpPr>
        <p:spPr>
          <a:xfrm>
            <a:off x="3348000" y="566100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3794" y="11771"/>
                </a:moveTo>
                <a:lnTo>
                  <a:pt x="17806" y="4765"/>
                </a:lnTo>
                <a:lnTo>
                  <a:pt x="17806" y="18778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СТАВЛЕННЫЕ ЦЕЛИ И ЗАДАЧ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комплексной маркетинговой информационной системы для качественного анализа отра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учение основных методов маркетинговых исследований и маркетингового анализа применительно к отрас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системы маркетинговых коэффициентов для отрас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экономико-математических методов в отраслевом анали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rId1" action="ppaction://hlinksldjump"/>
          </p:cNvPr>
          <p:cNvSpPr/>
          <p:nvPr/>
        </p:nvSpPr>
        <p:spPr>
          <a:xfrm>
            <a:off x="45705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3744" y="3837"/>
                </a:moveTo>
                <a:lnTo>
                  <a:pt x="16320" y="6448"/>
                </a:lnTo>
                <a:lnTo>
                  <a:pt x="16320" y="4707"/>
                </a:lnTo>
                <a:lnTo>
                  <a:pt x="18096" y="4707"/>
                </a:lnTo>
                <a:lnTo>
                  <a:pt x="18096" y="8224"/>
                </a:lnTo>
                <a:lnTo>
                  <a:pt x="20707" y="10800"/>
                </a:lnTo>
                <a:lnTo>
                  <a:pt x="19053" y="10800"/>
                </a:lnTo>
                <a:lnTo>
                  <a:pt x="19053" y="17989"/>
                </a:lnTo>
                <a:lnTo>
                  <a:pt x="8435" y="17989"/>
                </a:lnTo>
                <a:lnTo>
                  <a:pt x="8435" y="10800"/>
                </a:lnTo>
                <a:lnTo>
                  <a:pt x="6781" y="10800"/>
                </a:lnTo>
                <a:close/>
              </a:path>
              <a:path fill="darkenLess" w="27488" h="21600">
                <a:moveTo>
                  <a:pt x="16320" y="6448"/>
                </a:moveTo>
                <a:lnTo>
                  <a:pt x="16320" y="4707"/>
                </a:lnTo>
                <a:lnTo>
                  <a:pt x="18096" y="4707"/>
                </a:lnTo>
                <a:lnTo>
                  <a:pt x="18096" y="8224"/>
                </a:lnTo>
                <a:close/>
              </a:path>
              <a:path fill="darkenLess" w="27488" h="21600">
                <a:moveTo>
                  <a:pt x="12822" y="14299"/>
                </a:moveTo>
                <a:lnTo>
                  <a:pt x="14667" y="14299"/>
                </a:lnTo>
                <a:lnTo>
                  <a:pt x="14667" y="17989"/>
                </a:lnTo>
                <a:lnTo>
                  <a:pt x="19053" y="17989"/>
                </a:lnTo>
                <a:lnTo>
                  <a:pt x="19053" y="10800"/>
                </a:lnTo>
                <a:lnTo>
                  <a:pt x="8435" y="10800"/>
                </a:lnTo>
                <a:lnTo>
                  <a:pt x="8435" y="17989"/>
                </a:lnTo>
                <a:lnTo>
                  <a:pt x="12822" y="1798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5724360" y="5877000"/>
            <a:ext cx="792360" cy="79200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>
            <a:hlinkClick r:id="" action="ppaction://hlinkshowjump?jump=previousslide"/>
            <a:hlinkClick r:id="rId3"/>
          </p:cNvPr>
          <p:cNvSpPr/>
          <p:nvPr/>
        </p:nvSpPr>
        <p:spPr>
          <a:xfrm>
            <a:off x="3564000" y="587700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3794" y="11868"/>
                </a:moveTo>
                <a:lnTo>
                  <a:pt x="17806" y="4861"/>
                </a:lnTo>
                <a:lnTo>
                  <a:pt x="17806" y="18874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ОБЪЕКТ И ПРЕДМЕТ ИССЛЕДО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c"/>
                </a:solidFill>
                <a:latin typeface="Arial"/>
              </a:rPr>
              <a:t>Объек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я: инструменты и методики анализа отра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c"/>
                </a:solidFill>
                <a:latin typeface="Arial"/>
              </a:rPr>
              <a:t>Предмет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емы маркетингового анализа и маркетинговых исслед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rId1" action="ppaction://hlinksldjump"/>
          </p:cNvPr>
          <p:cNvSpPr/>
          <p:nvPr/>
        </p:nvSpPr>
        <p:spPr>
          <a:xfrm>
            <a:off x="4140360" y="5300640"/>
            <a:ext cx="936360" cy="93492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33" h="21600">
                <a:moveTo>
                  <a:pt x="0" y="0"/>
                </a:moveTo>
                <a:lnTo>
                  <a:pt x="21633" y="0"/>
                </a:lnTo>
                <a:lnTo>
                  <a:pt x="21633" y="21600"/>
                </a:lnTo>
                <a:lnTo>
                  <a:pt x="0" y="21600"/>
                </a:lnTo>
                <a:close/>
              </a:path>
              <a:path fill="lightenLess" w="21633" h="21600">
                <a:moveTo>
                  <a:pt x="0" y="0"/>
                </a:moveTo>
                <a:lnTo>
                  <a:pt x="21633" y="0"/>
                </a:lnTo>
                <a:lnTo>
                  <a:pt x="20233" y="1400"/>
                </a:lnTo>
                <a:lnTo>
                  <a:pt x="1400" y="1400"/>
                </a:lnTo>
                <a:close/>
              </a:path>
              <a:path fill="darken" w="21633" h="21600">
                <a:moveTo>
                  <a:pt x="21633" y="0"/>
                </a:moveTo>
                <a:lnTo>
                  <a:pt x="21633" y="21600"/>
                </a:lnTo>
                <a:lnTo>
                  <a:pt x="20233" y="20200"/>
                </a:lnTo>
                <a:lnTo>
                  <a:pt x="20233" y="1400"/>
                </a:lnTo>
                <a:close/>
              </a:path>
              <a:path fill="darkenLess" w="21633" h="21600">
                <a:moveTo>
                  <a:pt x="21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3" y="20200"/>
                </a:lnTo>
                <a:close/>
              </a:path>
              <a:path fill="lighten" w="21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3" h="21600">
                <a:moveTo>
                  <a:pt x="10817" y="3837"/>
                </a:moveTo>
                <a:lnTo>
                  <a:pt x="13393" y="6448"/>
                </a:lnTo>
                <a:lnTo>
                  <a:pt x="13393" y="4707"/>
                </a:lnTo>
                <a:lnTo>
                  <a:pt x="15168" y="4707"/>
                </a:lnTo>
                <a:lnTo>
                  <a:pt x="15168" y="8224"/>
                </a:lnTo>
                <a:lnTo>
                  <a:pt x="17780" y="10800"/>
                </a:lnTo>
                <a:lnTo>
                  <a:pt x="16126" y="10800"/>
                </a:lnTo>
                <a:lnTo>
                  <a:pt x="16126" y="17989"/>
                </a:lnTo>
                <a:lnTo>
                  <a:pt x="5507" y="17989"/>
                </a:lnTo>
                <a:lnTo>
                  <a:pt x="5507" y="10800"/>
                </a:lnTo>
                <a:lnTo>
                  <a:pt x="3854" y="10800"/>
                </a:lnTo>
                <a:close/>
              </a:path>
              <a:path fill="darkenLess" w="21633" h="21600">
                <a:moveTo>
                  <a:pt x="13393" y="6448"/>
                </a:moveTo>
                <a:lnTo>
                  <a:pt x="13393" y="4707"/>
                </a:lnTo>
                <a:lnTo>
                  <a:pt x="15168" y="4707"/>
                </a:lnTo>
                <a:lnTo>
                  <a:pt x="15168" y="8224"/>
                </a:lnTo>
                <a:close/>
              </a:path>
              <a:path fill="darkenLess" w="21633" h="21600">
                <a:moveTo>
                  <a:pt x="9894" y="14299"/>
                </a:moveTo>
                <a:lnTo>
                  <a:pt x="11739" y="14299"/>
                </a:lnTo>
                <a:lnTo>
                  <a:pt x="11739" y="17989"/>
                </a:lnTo>
                <a:lnTo>
                  <a:pt x="16126" y="17989"/>
                </a:lnTo>
                <a:lnTo>
                  <a:pt x="16126" y="10800"/>
                </a:lnTo>
                <a:lnTo>
                  <a:pt x="5507" y="10800"/>
                </a:lnTo>
                <a:lnTo>
                  <a:pt x="5507" y="17989"/>
                </a:lnTo>
                <a:lnTo>
                  <a:pt x="9894" y="1798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5292720" y="5300640"/>
            <a:ext cx="792000" cy="93672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936720"/>
              <a:gd name="textAreaBottom" fmla="*/ 885600 h 936720"/>
            </a:gdLst>
            <a:ahLst/>
            <a:rect l="textAreaLeft" t="textAreaTop" r="textAreaRight" b="textAreaBottom"/>
            <a:pathLst>
              <a:path w="21600" h="25545">
                <a:moveTo>
                  <a:pt x="0" y="0"/>
                </a:moveTo>
                <a:lnTo>
                  <a:pt x="21600" y="0"/>
                </a:lnTo>
                <a:lnTo>
                  <a:pt x="21600" y="25545"/>
                </a:lnTo>
                <a:lnTo>
                  <a:pt x="0" y="25545"/>
                </a:lnTo>
                <a:close/>
              </a:path>
              <a:path fill="lightenLess" w="21600" h="255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45">
                <a:moveTo>
                  <a:pt x="21600" y="0"/>
                </a:moveTo>
                <a:lnTo>
                  <a:pt x="21600" y="25545"/>
                </a:lnTo>
                <a:lnTo>
                  <a:pt x="20200" y="24145"/>
                </a:lnTo>
                <a:lnTo>
                  <a:pt x="20200" y="1400"/>
                </a:lnTo>
                <a:close/>
              </a:path>
              <a:path fill="darkenLess" w="21600" h="25545">
                <a:moveTo>
                  <a:pt x="21600" y="25545"/>
                </a:moveTo>
                <a:lnTo>
                  <a:pt x="0" y="25545"/>
                </a:lnTo>
                <a:lnTo>
                  <a:pt x="1400" y="24145"/>
                </a:lnTo>
                <a:lnTo>
                  <a:pt x="20200" y="24145"/>
                </a:lnTo>
                <a:close/>
              </a:path>
              <a:path fill="lighten" w="21600" h="25545">
                <a:moveTo>
                  <a:pt x="0" y="255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45"/>
                </a:lnTo>
                <a:close/>
              </a:path>
              <a:path fill="darken" w="21600" h="25545">
                <a:moveTo>
                  <a:pt x="3794" y="5766"/>
                </a:moveTo>
                <a:lnTo>
                  <a:pt x="17806" y="12773"/>
                </a:lnTo>
                <a:lnTo>
                  <a:pt x="3794" y="1977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>
            <a:hlinkClick r:id="" action="ppaction://hlinkshowjump?jump=previousslide"/>
            <a:hlinkClick r:id="rId3"/>
          </p:cNvPr>
          <p:cNvSpPr/>
          <p:nvPr/>
        </p:nvSpPr>
        <p:spPr>
          <a:xfrm>
            <a:off x="3276720" y="5300640"/>
            <a:ext cx="647640" cy="936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936720"/>
              <a:gd name="textAreaBottom" fmla="*/ 894960 h 936720"/>
            </a:gdLst>
            <a:ahLst/>
            <a:rect l="textAreaLeft" t="textAreaTop" r="textAreaRight" b="textAreaBottom"/>
            <a:pathLst>
              <a:path w="21600" h="31236">
                <a:moveTo>
                  <a:pt x="0" y="0"/>
                </a:moveTo>
                <a:lnTo>
                  <a:pt x="21600" y="0"/>
                </a:lnTo>
                <a:lnTo>
                  <a:pt x="21600" y="31236"/>
                </a:lnTo>
                <a:lnTo>
                  <a:pt x="0" y="31236"/>
                </a:lnTo>
                <a:close/>
              </a:path>
              <a:path fill="lightenLess" w="21600" h="312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236">
                <a:moveTo>
                  <a:pt x="21600" y="0"/>
                </a:moveTo>
                <a:lnTo>
                  <a:pt x="21600" y="31236"/>
                </a:lnTo>
                <a:lnTo>
                  <a:pt x="20200" y="29836"/>
                </a:lnTo>
                <a:lnTo>
                  <a:pt x="20200" y="1400"/>
                </a:lnTo>
                <a:close/>
              </a:path>
              <a:path fill="darkenLess" w="21600" h="31236">
                <a:moveTo>
                  <a:pt x="21600" y="31236"/>
                </a:moveTo>
                <a:lnTo>
                  <a:pt x="0" y="31236"/>
                </a:lnTo>
                <a:lnTo>
                  <a:pt x="1400" y="29836"/>
                </a:lnTo>
                <a:lnTo>
                  <a:pt x="20200" y="29836"/>
                </a:lnTo>
                <a:close/>
              </a:path>
              <a:path fill="lighten" w="21600" h="31236">
                <a:moveTo>
                  <a:pt x="0" y="312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9836"/>
                </a:lnTo>
                <a:close/>
              </a:path>
              <a:path fill="darken" w="21600" h="31236">
                <a:moveTo>
                  <a:pt x="3794" y="15618"/>
                </a:moveTo>
                <a:lnTo>
                  <a:pt x="17806" y="8612"/>
                </a:lnTo>
                <a:lnTo>
                  <a:pt x="17806" y="22624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НАУЧНАЯ ГИПОТЕЗ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ых условиях, используя теоретическую базу и опыт известных ученых, можно создать эффективную систему анализа отра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>
            <a:hlinkClick r:id="rId1" action="ppaction://hlinksldjump"/>
          </p:cNvPr>
          <p:cNvSpPr/>
          <p:nvPr/>
        </p:nvSpPr>
        <p:spPr>
          <a:xfrm>
            <a:off x="4284720" y="544500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5364000" y="5445000"/>
            <a:ext cx="720720" cy="79236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360"/>
              <a:gd name="textAreaBottom" fmla="*/ 745920 h 792360"/>
            </a:gdLst>
            <a:ahLst/>
            <a:rect l="textAreaLeft" t="textAreaTop" r="textAreaRight" b="textAreaBottom"/>
            <a:pathLst>
              <a:path w="21600" h="23746">
                <a:moveTo>
                  <a:pt x="0" y="0"/>
                </a:moveTo>
                <a:lnTo>
                  <a:pt x="21600" y="0"/>
                </a:lnTo>
                <a:lnTo>
                  <a:pt x="21600" y="23746"/>
                </a:lnTo>
                <a:lnTo>
                  <a:pt x="0" y="23746"/>
                </a:lnTo>
                <a:close/>
              </a:path>
              <a:path fill="lightenLess" w="21600" h="237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46">
                <a:moveTo>
                  <a:pt x="21600" y="0"/>
                </a:moveTo>
                <a:lnTo>
                  <a:pt x="21600" y="23746"/>
                </a:lnTo>
                <a:lnTo>
                  <a:pt x="20200" y="22346"/>
                </a:lnTo>
                <a:lnTo>
                  <a:pt x="20200" y="1400"/>
                </a:lnTo>
                <a:close/>
              </a:path>
              <a:path fill="darkenLess" w="21600" h="23746">
                <a:moveTo>
                  <a:pt x="21600" y="23746"/>
                </a:moveTo>
                <a:lnTo>
                  <a:pt x="0" y="23746"/>
                </a:lnTo>
                <a:lnTo>
                  <a:pt x="1400" y="22346"/>
                </a:lnTo>
                <a:lnTo>
                  <a:pt x="20200" y="22346"/>
                </a:lnTo>
                <a:close/>
              </a:path>
              <a:path fill="lighten" w="21600" h="23746">
                <a:moveTo>
                  <a:pt x="0" y="237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46"/>
                </a:lnTo>
                <a:close/>
              </a:path>
              <a:path fill="darken" w="21600" h="23746">
                <a:moveTo>
                  <a:pt x="3794" y="4867"/>
                </a:moveTo>
                <a:lnTo>
                  <a:pt x="17806" y="11873"/>
                </a:lnTo>
                <a:lnTo>
                  <a:pt x="3794" y="18879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>
            <a:hlinkClick r:id="" action="ppaction://hlinkshowjump?jump=previousslide"/>
            <a:hlinkClick r:id="rId3"/>
          </p:cNvPr>
          <p:cNvSpPr/>
          <p:nvPr/>
        </p:nvSpPr>
        <p:spPr>
          <a:xfrm>
            <a:off x="3348000" y="5445000"/>
            <a:ext cx="647640" cy="863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56089c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4:13:02Z</dcterms:created>
  <dc:creator>Ольга</dc:creator>
  <dc:description/>
  <dc:language>en-US</dc:language>
  <cp:lastModifiedBy>Admin</cp:lastModifiedBy>
  <dcterms:modified xsi:type="dcterms:W3CDTF">2012-12-14T22:34:44Z</dcterms:modified>
  <cp:revision>34</cp:revision>
  <dc:subject/>
  <dc:title>Маркетинговые исследования и маркетинговый анализ кондитерской отрасли РБ</dc:title>
</cp:coreProperties>
</file>